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21.wmf" ContentType="image/x-wmf"/>
  <Override PartName="/ppt/media/image18.png" ContentType="image/png"/>
  <Override PartName="/ppt/media/image19.png" ContentType="image/png"/>
  <Override PartName="/ppt/media/image20.png" ContentType="image/png"/>
  <Override PartName="/ppt/media/image17.png" ContentType="image/png"/>
  <Override PartName="/ppt/media/image29.png" ContentType="image/png"/>
  <Override PartName="/ppt/media/image11.png" ContentType="image/png"/>
  <Override PartName="/ppt/media/image15.wmf" ContentType="image/x-wmf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14.png" ContentType="image/png"/>
  <Override PartName="/ppt/media/image9.wmf" ContentType="image/x-wmf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30.wmf" ContentType="image/x-wmf"/>
  <Override PartName="/ppt/media/image27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973080"/>
            <a:ext cx="8140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973080"/>
            <a:ext cx="8140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973080"/>
            <a:ext cx="8140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D087-99C3-4F23-B402-DFDD1A9B6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973080"/>
            <a:ext cx="8140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7A82-8D86-40C5-955D-1CB6ED95B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973080"/>
            <a:ext cx="8140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DB6D-ECE8-42A3-AEBE-A3737F220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973080"/>
            <a:ext cx="8140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E5FF-4489-48CE-B644-7996DE882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973080"/>
            <a:ext cx="8140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94F1-AAA4-4810-9A28-0C42DC801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560" y="973080"/>
            <a:ext cx="814068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BDA4-F47D-4F19-9335-74BC38FF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973080"/>
            <a:ext cx="8140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DEE1-2919-468A-B606-03B1D458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973080"/>
            <a:ext cx="8140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973080"/>
            <a:ext cx="8140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9E79-AE80-4E74-8A8E-8A7F40D5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973080"/>
            <a:ext cx="8140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DABB-C5A9-44AC-A5CD-EE2ED6A4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973080"/>
            <a:ext cx="8140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0B1B-4492-4246-8525-46CD3ECE8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560" y="973080"/>
            <a:ext cx="8140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779A-5B07-4E7A-8985-296DD55B6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560" y="973080"/>
            <a:ext cx="8140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C824-95F7-463F-A50C-2A7CD1D37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973080"/>
            <a:ext cx="8140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973080"/>
            <a:ext cx="8140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973080"/>
            <a:ext cx="8140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973080"/>
            <a:ext cx="814068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973080"/>
            <a:ext cx="8140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973080"/>
            <a:ext cx="8140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973080"/>
            <a:ext cx="8140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973080"/>
            <a:ext cx="8140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5160" y="31680"/>
            <a:ext cx="8991360" cy="398880"/>
          </a:xfrm>
          <a:prstGeom prst="rect">
            <a:avLst/>
          </a:prstGeom>
          <a:noFill/>
          <a:ln cap="rnd" w="93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99"/>
                </a:solidFill>
                <a:latin typeface="隶书"/>
                <a:ea typeface="隶书"/>
              </a:rPr>
              <a:t>第</a:t>
            </a:r>
            <a:r>
              <a:rPr b="1" lang="zh-CN" sz="2000" spc="-1" strike="noStrike">
                <a:solidFill>
                  <a:srgbClr val="990099"/>
                </a:solidFill>
                <a:latin typeface="隶书"/>
                <a:ea typeface="隶书"/>
              </a:rPr>
              <a:t>8</a:t>
            </a:r>
            <a:r>
              <a:rPr b="1" lang="zh-CN" sz="2000" spc="-1" strike="noStrike">
                <a:solidFill>
                  <a:srgbClr val="990099"/>
                </a:solidFill>
                <a:latin typeface="隶书"/>
                <a:ea typeface="隶书"/>
              </a:rPr>
              <a:t>章  磁盘接口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1981080" y="24624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715000" y="24624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2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3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40E19-53A7-4884-833E-42063510C490}" type="slidenum">
              <a:rPr b="0" lang="zh-CN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image" Target="../media/image2.png"/><Relationship Id="rId6" Type="http://schemas.openxmlformats.org/officeDocument/2006/relationships/slide" Target="slide18.xml"/><Relationship Id="rId7" Type="http://schemas.openxmlformats.org/officeDocument/2006/relationships/slide" Target="slide18.xml"/><Relationship Id="rId8" Type="http://schemas.openxmlformats.org/officeDocument/2006/relationships/image" Target="../media/image2.png"/><Relationship Id="rId9" Type="http://schemas.openxmlformats.org/officeDocument/2006/relationships/slide" Target="slide36.xml"/><Relationship Id="rId10" Type="http://schemas.openxmlformats.org/officeDocument/2006/relationships/slide" Target="slide36.xml"/><Relationship Id="rId11" Type="http://schemas.openxmlformats.org/officeDocument/2006/relationships/image" Target="../media/image2.png"/><Relationship Id="rId12" Type="http://schemas.openxmlformats.org/officeDocument/2006/relationships/slide" Target="slide70.xml"/><Relationship Id="rId13" Type="http://schemas.openxmlformats.org/officeDocument/2006/relationships/slide" Target="slide70.xml"/><Relationship Id="rId14" Type="http://schemas.openxmlformats.org/officeDocument/2006/relationships/image" Target="../media/image2.png"/><Relationship Id="rId15" Type="http://schemas.openxmlformats.org/officeDocument/2006/relationships/slide" Target="slide75.xml"/><Relationship Id="rId16" Type="http://schemas.openxmlformats.org/officeDocument/2006/relationships/slide" Target="slide75.xml"/><Relationship Id="rId1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" Target="slide19.xml"/><Relationship Id="rId4" Type="http://schemas.openxmlformats.org/officeDocument/2006/relationships/slide" Target="slide19.xml"/><Relationship Id="rId5" Type="http://schemas.openxmlformats.org/officeDocument/2006/relationships/image" Target="../media/image2.png"/><Relationship Id="rId6" Type="http://schemas.openxmlformats.org/officeDocument/2006/relationships/slide" Target="slide25.xml"/><Relationship Id="rId7" Type="http://schemas.openxmlformats.org/officeDocument/2006/relationships/slide" Target="slide25.xml"/><Relationship Id="rId8" Type="http://schemas.openxmlformats.org/officeDocument/2006/relationships/image" Target="../media/image2.png"/><Relationship Id="rId9" Type="http://schemas.openxmlformats.org/officeDocument/2006/relationships/slide" Target="slide30.xml"/><Relationship Id="rId10" Type="http://schemas.openxmlformats.org/officeDocument/2006/relationships/slide" Target="slide30.xml"/><Relationship Id="rId11" Type="http://schemas.openxmlformats.org/officeDocument/2006/relationships/slide" Target="slide30.xml"/><Relationship Id="rId12" Type="http://schemas.openxmlformats.org/officeDocument/2006/relationships/slide" Target="slide1.xml"/><Relationship Id="rId1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image" Target="../media/image6.png"/><Relationship Id="rId6" Type="http://schemas.openxmlformats.org/officeDocument/2006/relationships/slide" Target="slide6.xml"/><Relationship Id="rId7" Type="http://schemas.openxmlformats.org/officeDocument/2006/relationships/slide" Target="slide6.xml"/><Relationship Id="rId8" Type="http://schemas.openxmlformats.org/officeDocument/2006/relationships/image" Target="../media/image6.png"/><Relationship Id="rId9" Type="http://schemas.openxmlformats.org/officeDocument/2006/relationships/slide" Target="slide7.xml"/><Relationship Id="rId10" Type="http://schemas.openxmlformats.org/officeDocument/2006/relationships/slide" Target="slide7.xml"/><Relationship Id="rId11" Type="http://schemas.openxmlformats.org/officeDocument/2006/relationships/image" Target="../media/image6.png"/><Relationship Id="rId12" Type="http://schemas.openxmlformats.org/officeDocument/2006/relationships/slide" Target="slide8.xml"/><Relationship Id="rId13" Type="http://schemas.openxmlformats.org/officeDocument/2006/relationships/slide" Target="slide8.xml"/><Relationship Id="rId14" Type="http://schemas.openxmlformats.org/officeDocument/2006/relationships/image" Target="../media/image6.png"/><Relationship Id="rId15" Type="http://schemas.openxmlformats.org/officeDocument/2006/relationships/slide" Target="slide10.xml"/><Relationship Id="rId16" Type="http://schemas.openxmlformats.org/officeDocument/2006/relationships/slide" Target="slide10.xml"/><Relationship Id="rId17" Type="http://schemas.openxmlformats.org/officeDocument/2006/relationships/image" Target="../media/image6.png"/><Relationship Id="rId18" Type="http://schemas.openxmlformats.org/officeDocument/2006/relationships/slide" Target="slide13.xml"/><Relationship Id="rId19" Type="http://schemas.openxmlformats.org/officeDocument/2006/relationships/slide" Target="slide13.xml"/><Relationship Id="rId20" Type="http://schemas.openxmlformats.org/officeDocument/2006/relationships/image" Target="../media/image6.png"/><Relationship Id="rId21" Type="http://schemas.openxmlformats.org/officeDocument/2006/relationships/slide" Target="slide15.xml"/><Relationship Id="rId22" Type="http://schemas.openxmlformats.org/officeDocument/2006/relationships/slide" Target="slide15.xml"/><Relationship Id="rId23" Type="http://schemas.openxmlformats.org/officeDocument/2006/relationships/image" Target="../media/image6.png"/><Relationship Id="rId24" Type="http://schemas.openxmlformats.org/officeDocument/2006/relationships/slide" Target="slide17.xml"/><Relationship Id="rId25" Type="http://schemas.openxmlformats.org/officeDocument/2006/relationships/slide" Target="slide17.xml"/><Relationship Id="rId26" Type="http://schemas.openxmlformats.org/officeDocument/2006/relationships/slide" Target="slide1.xml"/><Relationship Id="rId27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" Target="slide37.xml"/><Relationship Id="rId4" Type="http://schemas.openxmlformats.org/officeDocument/2006/relationships/slide" Target="slide37.xml"/><Relationship Id="rId5" Type="http://schemas.openxmlformats.org/officeDocument/2006/relationships/image" Target="../media/image2.png"/><Relationship Id="rId6" Type="http://schemas.openxmlformats.org/officeDocument/2006/relationships/slide" Target="slide45.xml"/><Relationship Id="rId7" Type="http://schemas.openxmlformats.org/officeDocument/2006/relationships/slide" Target="slide45.xml"/><Relationship Id="rId8" Type="http://schemas.openxmlformats.org/officeDocument/2006/relationships/image" Target="../media/image2.png"/><Relationship Id="rId9" Type="http://schemas.openxmlformats.org/officeDocument/2006/relationships/slide" Target="slide56.xml"/><Relationship Id="rId10" Type="http://schemas.openxmlformats.org/officeDocument/2006/relationships/slide" Target="slide56.xml"/><Relationship Id="rId11" Type="http://schemas.openxmlformats.org/officeDocument/2006/relationships/image" Target="../media/image2.png"/><Relationship Id="rId12" Type="http://schemas.openxmlformats.org/officeDocument/2006/relationships/slide" Target="slide61.xml"/><Relationship Id="rId13" Type="http://schemas.openxmlformats.org/officeDocument/2006/relationships/slide" Target="slide61.xml"/><Relationship Id="rId14" Type="http://schemas.openxmlformats.org/officeDocument/2006/relationships/slide" Target="slide61.xml"/><Relationship Id="rId15" Type="http://schemas.openxmlformats.org/officeDocument/2006/relationships/slide" Target="slide61.xml"/><Relationship Id="rId16" Type="http://schemas.openxmlformats.org/officeDocument/2006/relationships/slide" Target="slide61.xml"/><Relationship Id="rId17" Type="http://schemas.openxmlformats.org/officeDocument/2006/relationships/slide" Target="slide61.xml"/><Relationship Id="rId18" Type="http://schemas.openxmlformats.org/officeDocument/2006/relationships/slide" Target="slide61.xml"/><Relationship Id="rId19" Type="http://schemas.openxmlformats.org/officeDocument/2006/relationships/slide" Target="slide61.xml"/><Relationship Id="rId20" Type="http://schemas.openxmlformats.org/officeDocument/2006/relationships/slide" Target="slide61.xml"/><Relationship Id="rId21" Type="http://schemas.openxmlformats.org/officeDocument/2006/relationships/slide" Target="slide1.xml"/><Relationship Id="rId2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" Target="slide71.xml"/><Relationship Id="rId4" Type="http://schemas.openxmlformats.org/officeDocument/2006/relationships/slide" Target="slide71.xml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" Target="slide1.xml"/><Relationship Id="rId9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8.png"/><Relationship Id="rId3" Type="http://schemas.openxmlformats.org/officeDocument/2006/relationships/image" Target="../media/image38.png"/><Relationship Id="rId4" Type="http://schemas.openxmlformats.org/officeDocument/2006/relationships/slide" Target="slide1.xml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973080"/>
            <a:ext cx="7683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黑体"/>
              </a:rPr>
              <a:t>第</a:t>
            </a:r>
            <a:r>
              <a:rPr b="1" lang="zh-CN" sz="3600" spc="-1" strike="noStrike">
                <a:solidFill>
                  <a:srgbClr val="ff9900"/>
                </a:solidFill>
                <a:latin typeface="Arial Unicode MS"/>
                <a:ea typeface="Arial Unicode MS"/>
              </a:rPr>
              <a:t>8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黑体"/>
              </a:rPr>
              <a:t>章</a:t>
            </a:r>
            <a:r>
              <a:rPr b="1" lang="zh-CN" sz="3600" spc="-1" strike="noStrike">
                <a:solidFill>
                  <a:srgbClr val="ff9900"/>
                </a:solidFill>
                <a:latin typeface="Arial Unicode MS"/>
                <a:ea typeface="Arial Unicode MS"/>
              </a:rPr>
              <a:t>  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黑体"/>
              </a:rPr>
              <a:t>磁盘接口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828440" y="1904760"/>
            <a:ext cx="66056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f89f7"/>
                </a:solidFill>
                <a:uFillTx/>
                <a:latin typeface="Arial Unicode MS"/>
                <a:ea typeface="Times New Roman"/>
                <a:hlinkClick r:id="rId3" action="ppaction://hlinksldjump"/>
              </a:rPr>
              <a:t>8.1  </a:t>
            </a:r>
            <a:r>
              <a:rPr b="0" lang="zh-CN" sz="3200" spc="-1" strike="noStrike" u="sng">
                <a:solidFill>
                  <a:srgbClr val="6f89f7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磁盘概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f89f7"/>
                </a:solidFill>
                <a:uFillTx/>
                <a:latin typeface="Arial Unicode MS"/>
                <a:ea typeface="Times New Roman"/>
                <a:hlinkClick r:id="rId6" action="ppaction://hlinksldjump"/>
              </a:rPr>
              <a:t>8.2  </a:t>
            </a:r>
            <a:r>
              <a:rPr b="0" lang="zh-CN" sz="3200" spc="-1" strike="noStrike" u="sng">
                <a:solidFill>
                  <a:srgbClr val="6f89f7"/>
                </a:solidFill>
                <a:uFillTx/>
                <a:latin typeface="Times New Roman"/>
                <a:ea typeface="Times New Roman"/>
                <a:hlinkClick r:id="rId7" action="ppaction://hlinksldjump"/>
              </a:rPr>
              <a:t>软盘驱动器接口电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f89f7"/>
                </a:solidFill>
                <a:uFillTx/>
                <a:latin typeface="Arial Unicode MS"/>
                <a:ea typeface="Times New Roman"/>
                <a:hlinkClick r:id="rId9" action="ppaction://hlinksldjump"/>
              </a:rPr>
              <a:t>8.3  </a:t>
            </a:r>
            <a:r>
              <a:rPr b="0" lang="zh-CN" sz="3200" spc="-1" strike="noStrike" u="sng">
                <a:solidFill>
                  <a:srgbClr val="6f89f7"/>
                </a:solidFill>
                <a:uFillTx/>
                <a:latin typeface="Times New Roman"/>
                <a:ea typeface="Times New Roman"/>
                <a:hlinkClick r:id="rId10" action="ppaction://hlinksldjump"/>
              </a:rPr>
              <a:t>硬盘驱动器接口电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f89f7"/>
                </a:solidFill>
                <a:uFillTx/>
                <a:latin typeface="Arial Unicode MS"/>
                <a:ea typeface="Times New Roman"/>
                <a:hlinkClick r:id="rId12" action="ppaction://hlinksldjump"/>
              </a:rPr>
              <a:t>8.4  </a:t>
            </a:r>
            <a:r>
              <a:rPr b="0" lang="zh-CN" sz="3200" spc="-1" strike="noStrike" u="sng">
                <a:solidFill>
                  <a:srgbClr val="6f89f7"/>
                </a:solidFill>
                <a:uFillTx/>
                <a:latin typeface="Times New Roman"/>
                <a:ea typeface="Times New Roman"/>
                <a:hlinkClick r:id="rId13" action="ppaction://hlinksldjump"/>
              </a:rPr>
              <a:t>现代硬盘及接口技术的发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f89f7"/>
                </a:solidFill>
                <a:uFillTx/>
                <a:latin typeface="Arial Unicode MS"/>
                <a:ea typeface="Times New Roman"/>
                <a:hlinkClick r:id="rId15" action="ppaction://hlinksldjump"/>
              </a:rPr>
              <a:t>8.5  </a:t>
            </a:r>
            <a:r>
              <a:rPr b="0" lang="zh-CN" sz="3200" spc="-1" strike="noStrike" u="sng">
                <a:solidFill>
                  <a:srgbClr val="6f89f7"/>
                </a:solidFill>
                <a:uFillTx/>
                <a:latin typeface="Times New Roman"/>
                <a:ea typeface="Times New Roman"/>
                <a:hlinkClick r:id="rId16" action="ppaction://hlinksldjump"/>
              </a:rPr>
              <a:t>磁盘驱动器接口软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973080"/>
            <a:ext cx="8140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 Unicode MS"/>
                <a:ea typeface="Times New Roman"/>
              </a:rPr>
              <a:t>8.1.5  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磁盘的种类</a:t>
            </a:r>
            <a:r>
              <a:rPr b="1" lang="zh-CN" sz="3600" spc="-1" strike="noStrike">
                <a:solidFill>
                  <a:srgbClr val="ff9900"/>
                </a:solidFill>
                <a:latin typeface="Arial Unicode MS"/>
                <a:ea typeface="Times New Roman"/>
              </a:rPr>
              <a:t>	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04760" y="2209680"/>
            <a:ext cx="70102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硬磁盘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如图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8.3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表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8.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所示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软盘驱动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88144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43280" y="55627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.3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硬盘的外形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8144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676520" y="1316160"/>
            <a:ext cx="5790960" cy="42242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362320" y="3200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正面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867280" y="3200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反面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86200" y="5105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接口面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828800" y="586728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8.1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常见硬盘的主要性能参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238880" y="6324480"/>
            <a:ext cx="15796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85800" y="838080"/>
          <a:ext cx="7543800" cy="479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838080"/>
                    <a:ext cx="7543800" cy="47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95280" y="1049760"/>
            <a:ext cx="6477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 Unicode MS"/>
                <a:ea typeface="Times New Roman"/>
              </a:rPr>
              <a:t>　</a:t>
            </a:r>
            <a:r>
              <a:rPr b="1" lang="zh-CN" sz="3600" spc="-1" strike="noStrike">
                <a:solidFill>
                  <a:srgbClr val="ff9900"/>
                </a:solidFill>
                <a:latin typeface="Arial Unicode MS"/>
                <a:ea typeface="Times New Roman"/>
              </a:rPr>
              <a:t>8.1.6  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软盘驱动器的类型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08056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　　软盘驱动器一般分为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5.25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英寸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.5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英寸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5.25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英寸的磁盘容量一般为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.2M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60K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两种；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.5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英寸的磁盘容量一般为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.44M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720K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两种类型。现在使用的是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.5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英寸，且容量为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.44M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62120" y="1752480"/>
            <a:ext cx="77724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软盘驱动器的工作原理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当软磁盘放入驱动器时，通过软盘驱动器控制电路指示主轴电机和磁头步进电机动作，进行读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写操作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磁盘数据的错误校验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常用数据校验的方法主要有循环冗余码校验及补码校验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238880" y="6324480"/>
            <a:ext cx="15796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560" y="973080"/>
            <a:ext cx="8140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 Unicode MS"/>
                <a:ea typeface="Times New Roman"/>
              </a:rPr>
              <a:t>8.1.7  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磁盘数据和数据格式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437920" y="1828440"/>
            <a:ext cx="477684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磁盘的磁道和扇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2514600"/>
            <a:ext cx="80773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磁盘基本是按磁道来存储数据的，都含有三类字段：索引字段、标识字段和数据字段。这三种字段有时组合起来，构成几个区域，如地址区、数据区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一般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.44M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软盘的磁道为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8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个磁道，每个磁道为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个扇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133720" y="914040"/>
            <a:ext cx="51609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．磁盘数据的编码格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28800" y="54864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8.4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磁记录的编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238880" y="6324480"/>
            <a:ext cx="15796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9900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6684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6320" y="1981080"/>
            <a:ext cx="8762760" cy="29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1034280"/>
            <a:ext cx="753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 Unicode MS"/>
                <a:ea typeface="Times New Roman"/>
              </a:rPr>
              <a:t>8.1.8  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</a:rPr>
              <a:t>其他外部存储设备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8132760" cy="35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　　其他存储设备主要是光盘。一般光盘驱动器主要有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CD-ROM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MO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磁光盘、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CD-RW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DVD-ROM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驱动器等。光盘盘片的尺寸一般为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5.25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英寸。光盘介质的存储容量各不相同。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CD-ROM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光盘的存储容量一般为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650M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；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MO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光盘的存储容量一般为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30M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；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DVD-ROM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存储容量可达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4.7G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6324480"/>
            <a:ext cx="15796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560" y="973080"/>
            <a:ext cx="8140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 Unicode MS"/>
                <a:ea typeface="Times New Roman"/>
              </a:rPr>
              <a:t>8.2  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软盘驱动器接口电路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2133720"/>
            <a:ext cx="72914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f89f7"/>
                </a:solidFill>
                <a:uFillTx/>
                <a:latin typeface="Arial Unicode MS"/>
                <a:ea typeface="Times New Roman"/>
                <a:hlinkClick r:id="rId3" action="ppaction://hlinksldjump"/>
              </a:rPr>
              <a:t>8.2.1  </a:t>
            </a:r>
            <a:r>
              <a:rPr b="0" lang="zh-CN" sz="3200" spc="-1" strike="noStrike" u="sng">
                <a:solidFill>
                  <a:srgbClr val="6f89f7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软盘适配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f89f7"/>
                </a:solidFill>
                <a:uFillTx/>
                <a:latin typeface="Arial Unicode MS"/>
                <a:ea typeface="Times New Roman"/>
                <a:hlinkClick r:id="rId6" action="ppaction://hlinksldjump"/>
              </a:rPr>
              <a:t>8.2.2  </a:t>
            </a:r>
            <a:r>
              <a:rPr b="0" lang="zh-CN" sz="3200" spc="-1" strike="noStrike" u="sng">
                <a:solidFill>
                  <a:srgbClr val="6f89f7"/>
                </a:solidFill>
                <a:uFillTx/>
                <a:latin typeface="Times New Roman"/>
                <a:ea typeface="Times New Roman"/>
                <a:hlinkClick r:id="rId7" action="ppaction://hlinksldjump"/>
              </a:rPr>
              <a:t>软盘控制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f89f7"/>
                </a:solidFill>
                <a:uFillTx/>
                <a:latin typeface="Arial Unicode MS"/>
                <a:ea typeface="Times New Roman"/>
                <a:hlinkClick r:id="rId9" action="ppaction://hlinksldjump"/>
              </a:rPr>
              <a:t>8.2.3  </a:t>
            </a:r>
            <a:r>
              <a:rPr b="0" lang="zh-CN" sz="3200" spc="-1" strike="noStrike" u="sng">
                <a:solidFill>
                  <a:srgbClr val="6f89f7"/>
                </a:solidFill>
                <a:uFillTx/>
                <a:latin typeface="Arial Unicode MS"/>
                <a:ea typeface="Times New Roman"/>
                <a:hlinkClick r:id="rId10" action="ppaction://hlinksldjump"/>
              </a:rPr>
              <a:t>FDC</a:t>
            </a:r>
            <a:r>
              <a:rPr b="0" lang="zh-CN" sz="3200" spc="-1" strike="noStrike" u="sng">
                <a:solidFill>
                  <a:srgbClr val="6f89f7"/>
                </a:solidFill>
                <a:uFillTx/>
                <a:latin typeface="Times New Roman"/>
                <a:ea typeface="Times New Roman"/>
                <a:hlinkClick r:id="rId11" action="ppaction://hlinksldjump"/>
              </a:rPr>
              <a:t>控制器命令与端口寄存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>
            <a:hlinkClick r:id="rId12" action="ppaction://hlinksldjump"/>
          </p:cNvPr>
          <p:cNvSpPr/>
          <p:nvPr/>
        </p:nvSpPr>
        <p:spPr>
          <a:xfrm>
            <a:off x="7238880" y="6324480"/>
            <a:ext cx="15796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Times New Roman"/>
              </a:rPr>
              <a:t>返回本章首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744480"/>
            <a:ext cx="8140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 Unicode MS"/>
                <a:ea typeface="Times New Roman"/>
              </a:rPr>
              <a:t>8.2.1  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软盘适配器</a:t>
            </a:r>
            <a:r>
              <a:rPr b="1" lang="zh-CN" sz="3600" spc="-1" strike="noStrike">
                <a:solidFill>
                  <a:srgbClr val="ff9900"/>
                </a:solidFill>
                <a:latin typeface="Arial Unicode MS"/>
                <a:ea typeface="Times New Roman"/>
              </a:rPr>
              <a:t>	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52480" y="63244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8.5  </a:t>
            </a: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软盘适配器电路框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43280" y="16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6629400" cy="46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520" y="973080"/>
            <a:ext cx="3886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本章学习目标</a:t>
            </a:r>
            <a:r>
              <a:rPr b="1" lang="zh-CN" sz="3600" spc="-1" strike="noStrike">
                <a:solidFill>
                  <a:srgbClr val="ff9900"/>
                </a:solidFill>
                <a:latin typeface="Arial Unicode MS"/>
                <a:ea typeface="Times New Roman"/>
              </a:rPr>
              <a:t>	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367760" cy="26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磁盘的工作原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软盘接口电路的组成和原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硬盘接口电路的组成和原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磁盘接口电路的中断服务程序的应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>
            <a:hlinkClick r:id="rId2" action="ppaction://hlinksldjump"/>
          </p:cNvPr>
          <p:cNvSpPr/>
          <p:nvPr/>
        </p:nvSpPr>
        <p:spPr>
          <a:xfrm>
            <a:off x="7238880" y="6324480"/>
            <a:ext cx="15796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Times New Roman"/>
              </a:rPr>
              <a:t>返回本章首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06668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总线缓冲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．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FDC NEC765A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软盘控制器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时钟时序电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数字信号控制电路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如图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8.6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所示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译码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写预补偿电路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如图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8.7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所示）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数据分离电路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其原理图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如图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8.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所示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8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信号驱动电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9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总线上的接口信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传输数据线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600200" y="579132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图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8.6  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数字信号控制与译码器示意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124000" y="21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792468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905120" y="60958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Times New Roman"/>
              </a:rPr>
              <a:t>图</a:t>
            </a:r>
            <a:r>
              <a:rPr b="0" lang="zh-CN" sz="2800" spc="-1" strike="noStrike">
                <a:solidFill>
                  <a:srgbClr val="ff9900"/>
                </a:solidFill>
                <a:latin typeface="Times New Roman"/>
              </a:rPr>
              <a:t>8.7  </a:t>
            </a:r>
            <a:r>
              <a:rPr b="0" lang="zh-CN" sz="2800" spc="-1" strike="noStrike">
                <a:solidFill>
                  <a:srgbClr val="ff9900"/>
                </a:solidFill>
                <a:latin typeface="Times New Roman"/>
              </a:rPr>
              <a:t>软盘适配器写预补偿电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66840" y="18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772400" cy="51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362320" y="57913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图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8.8  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数据分离电路示意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57320" y="20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5713" b="4524"/>
          <a:stretch/>
        </p:blipFill>
        <p:spPr>
          <a:xfrm>
            <a:off x="685800" y="1143000"/>
            <a:ext cx="792468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371600" y="9907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8.2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软盘驱动器线缆各引脚信号用途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238880" y="6324480"/>
            <a:ext cx="15796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990720" y="1828800"/>
          <a:ext cx="7543800" cy="397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828800"/>
                    <a:ext cx="7543800" cy="39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560" y="973080"/>
            <a:ext cx="8140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 Unicode MS"/>
                <a:ea typeface="Times New Roman"/>
              </a:rPr>
              <a:t>8.2.2  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软盘控制器</a:t>
            </a:r>
            <a:r>
              <a:rPr b="1" lang="zh-CN" sz="3600" spc="-1" strike="noStrike">
                <a:solidFill>
                  <a:srgbClr val="ff9900"/>
                </a:solidFill>
                <a:latin typeface="Arial Unicode MS"/>
                <a:ea typeface="Times New Roman"/>
              </a:rPr>
              <a:t>	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209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　　软盘控制器是磁盘控制的主要部件。通常采用驱动器专用微控制器芯片。软盘控制器的接口部件主要由三部分组成，与系统接口的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DM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控制逻辑、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MPU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控制逻辑；与驱动器控制信号接口的驱动器控制逻辑；与磁盘读写串行数据接口的串行控制逻辑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676160" y="990360"/>
            <a:ext cx="614844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FDC NEC765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的主要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2133720"/>
            <a:ext cx="8001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FDC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可分别受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CPU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DM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控制来自主机系统或直接存储器存取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DM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数据传送；可连接并控制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个磁盘驱动器，可以按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MFM/RLL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方式读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写单密度或双密度磁盘；可编程记录长度分别为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28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5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51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02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字节；可以与大多数微型计算机系统的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CPU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相兼容；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NEC765A FDC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采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LSI DIP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封装形式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066680" y="594360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Times New Roman"/>
              </a:rPr>
              <a:t>图</a:t>
            </a:r>
            <a:r>
              <a:rPr b="0" lang="zh-CN" sz="2800" spc="-1" strike="noStrike">
                <a:solidFill>
                  <a:srgbClr val="ff9900"/>
                </a:solidFill>
                <a:latin typeface="Times New Roman"/>
              </a:rPr>
              <a:t>8.9  </a:t>
            </a:r>
            <a:r>
              <a:rPr b="0" lang="zh-CN" sz="2800" spc="-1" strike="noStrike">
                <a:solidFill>
                  <a:srgbClr val="ff9900"/>
                </a:solidFill>
                <a:latin typeface="Times New Roman"/>
              </a:rPr>
              <a:t>软盘驱动器控制器（</a:t>
            </a:r>
            <a:r>
              <a:rPr b="0" lang="zh-CN" sz="2800" spc="-1" strike="noStrike">
                <a:solidFill>
                  <a:srgbClr val="ff9900"/>
                </a:solidFill>
                <a:latin typeface="Times New Roman"/>
              </a:rPr>
              <a:t>FDC</a:t>
            </a:r>
            <a:r>
              <a:rPr b="0" lang="zh-CN" sz="2800" spc="-1" strike="noStrike">
                <a:solidFill>
                  <a:srgbClr val="ff9900"/>
                </a:solidFill>
                <a:latin typeface="Times New Roman"/>
              </a:rPr>
              <a:t>）内部框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8116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162920" cy="48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218960" y="1066680"/>
            <a:ext cx="6553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NEC765A FDC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控制器的接口信号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198108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NEC765A FDC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控制器的引脚可分为三类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19320" y="2743200"/>
            <a:ext cx="71625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１）系统接口信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２）经过串行控制接口（如图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8.1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所示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３）由驱动器控制接口的若干信号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60520" y="1066680"/>
            <a:ext cx="9118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8.10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软盘驱动器控制器（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FDC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NEC765A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外形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238880" y="6324480"/>
            <a:ext cx="15796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9900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81240" y="18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51624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973080"/>
            <a:ext cx="6324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 Unicode MS"/>
                <a:ea typeface="Times New Roman"/>
              </a:rPr>
              <a:t>8.1  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磁盘概述</a:t>
            </a:r>
            <a:r>
              <a:rPr b="1" lang="zh-CN" sz="3600" spc="-1" strike="noStrike">
                <a:solidFill>
                  <a:srgbClr val="ff9900"/>
                </a:solidFill>
                <a:latin typeface="Arial Unicode MS"/>
                <a:ea typeface="Times New Roman"/>
              </a:rPr>
              <a:t>	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057040" y="1752480"/>
            <a:ext cx="6072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f89f7"/>
                </a:solidFill>
                <a:uFillTx/>
                <a:latin typeface="Arial Unicode MS"/>
                <a:ea typeface="Times New Roman"/>
                <a:hlinkClick r:id="rId3" action="ppaction://hlinksldjump"/>
              </a:rPr>
              <a:t>8.1.1  </a:t>
            </a:r>
            <a:r>
              <a:rPr b="0" lang="zh-CN" sz="2800" spc="-1" strike="noStrike" u="sng">
                <a:solidFill>
                  <a:srgbClr val="6f89f7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磁记录原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f89f7"/>
                </a:solidFill>
                <a:uFillTx/>
                <a:latin typeface="Arial Unicode MS"/>
                <a:ea typeface="Times New Roman"/>
                <a:hlinkClick r:id="rId6" action="ppaction://hlinksldjump"/>
              </a:rPr>
              <a:t>8.1.2  </a:t>
            </a:r>
            <a:r>
              <a:rPr b="0" lang="zh-CN" sz="2800" spc="-1" strike="noStrike" u="sng">
                <a:solidFill>
                  <a:srgbClr val="6f89f7"/>
                </a:solidFill>
                <a:uFillTx/>
                <a:latin typeface="Times New Roman"/>
                <a:ea typeface="Times New Roman"/>
                <a:hlinkClick r:id="rId7" action="ppaction://hlinksldjump"/>
              </a:rPr>
              <a:t>写入数据原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f89f7"/>
                </a:solidFill>
                <a:uFillTx/>
                <a:latin typeface="Arial Unicode MS"/>
                <a:ea typeface="Times New Roman"/>
                <a:hlinkClick r:id="rId9" action="ppaction://hlinksldjump"/>
              </a:rPr>
              <a:t>8.1.3  </a:t>
            </a:r>
            <a:r>
              <a:rPr b="0" lang="zh-CN" sz="2800" spc="-1" strike="noStrike" u="sng">
                <a:solidFill>
                  <a:srgbClr val="6f89f7"/>
                </a:solidFill>
                <a:uFillTx/>
                <a:latin typeface="Times New Roman"/>
                <a:ea typeface="Times New Roman"/>
                <a:hlinkClick r:id="rId10" action="ppaction://hlinksldjump"/>
              </a:rPr>
              <a:t>读出数据原理及过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f89f7"/>
                </a:solidFill>
                <a:uFillTx/>
                <a:latin typeface="Arial Unicode MS"/>
                <a:ea typeface="Times New Roman"/>
                <a:hlinkClick r:id="rId12" action="ppaction://hlinksldjump"/>
              </a:rPr>
              <a:t>8.1.4  </a:t>
            </a:r>
            <a:r>
              <a:rPr b="0" lang="zh-CN" sz="2800" spc="-1" strike="noStrike" u="sng">
                <a:solidFill>
                  <a:srgbClr val="6f89f7"/>
                </a:solidFill>
                <a:uFillTx/>
                <a:latin typeface="Times New Roman"/>
                <a:ea typeface="Times New Roman"/>
                <a:hlinkClick r:id="rId13" action="ppaction://hlinksldjump"/>
              </a:rPr>
              <a:t>读写过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f89f7"/>
                </a:solidFill>
                <a:uFillTx/>
                <a:latin typeface="Arial Unicode MS"/>
                <a:ea typeface="Times New Roman"/>
                <a:hlinkClick r:id="rId15" action="ppaction://hlinksldjump"/>
              </a:rPr>
              <a:t>8.1.5  </a:t>
            </a:r>
            <a:r>
              <a:rPr b="0" lang="zh-CN" sz="2800" spc="-1" strike="noStrike" u="sng">
                <a:solidFill>
                  <a:srgbClr val="6f89f7"/>
                </a:solidFill>
                <a:uFillTx/>
                <a:latin typeface="Times New Roman"/>
                <a:ea typeface="Times New Roman"/>
                <a:hlinkClick r:id="rId16" action="ppaction://hlinksldjump"/>
              </a:rPr>
              <a:t>磁盘的种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f89f7"/>
                </a:solidFill>
                <a:uFillTx/>
                <a:latin typeface="Arial Unicode MS"/>
                <a:ea typeface="Times New Roman"/>
                <a:hlinkClick r:id="rId18" action="ppaction://hlinksldjump"/>
              </a:rPr>
              <a:t>8.1.6  </a:t>
            </a:r>
            <a:r>
              <a:rPr b="0" lang="zh-CN" sz="2800" spc="-1" strike="noStrike" u="sng">
                <a:solidFill>
                  <a:srgbClr val="6f89f7"/>
                </a:solidFill>
                <a:uFillTx/>
                <a:latin typeface="Times New Roman"/>
                <a:ea typeface="Times New Roman"/>
                <a:hlinkClick r:id="rId19" action="ppaction://hlinksldjump"/>
              </a:rPr>
              <a:t>软盘驱动器的类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f89f7"/>
                </a:solidFill>
                <a:uFillTx/>
                <a:latin typeface="Arial Unicode MS"/>
                <a:ea typeface="Times New Roman"/>
                <a:hlinkClick r:id="rId21" action="ppaction://hlinksldjump"/>
              </a:rPr>
              <a:t>8.1.7  </a:t>
            </a:r>
            <a:r>
              <a:rPr b="0" lang="zh-CN" sz="2800" spc="-1" strike="noStrike" u="sng">
                <a:solidFill>
                  <a:srgbClr val="6f89f7"/>
                </a:solidFill>
                <a:uFillTx/>
                <a:latin typeface="Times New Roman"/>
                <a:ea typeface="Times New Roman"/>
                <a:hlinkClick r:id="rId22" action="ppaction://hlinksldjump"/>
              </a:rPr>
              <a:t>磁盘数据和数据格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f89f7"/>
                </a:solidFill>
                <a:uFillTx/>
                <a:latin typeface="Arial Unicode MS"/>
                <a:ea typeface="Times New Roman"/>
                <a:hlinkClick r:id="rId24" action="ppaction://hlinksldjump"/>
              </a:rPr>
              <a:t>8.1.8  </a:t>
            </a:r>
            <a:r>
              <a:rPr b="0" lang="zh-CN" sz="2800" spc="-1" strike="noStrike" u="sng">
                <a:solidFill>
                  <a:srgbClr val="6f89f7"/>
                </a:solidFill>
                <a:uFillTx/>
                <a:latin typeface="Times New Roman"/>
                <a:ea typeface="Times New Roman"/>
                <a:hlinkClick r:id="rId25" action="ppaction://hlinksldjump"/>
              </a:rPr>
              <a:t>其他外部存储设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6" action="ppaction://hlinksldjump"/>
          </p:cNvPr>
          <p:cNvSpPr/>
          <p:nvPr/>
        </p:nvSpPr>
        <p:spPr>
          <a:xfrm>
            <a:off x="7238880" y="6324480"/>
            <a:ext cx="15796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Times New Roman"/>
              </a:rPr>
              <a:t>返回本章首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560" y="1034280"/>
            <a:ext cx="8140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 Unicode MS"/>
                <a:ea typeface="Times New Roman"/>
              </a:rPr>
              <a:t>8.2.3  FDC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</a:rPr>
              <a:t>控制器命令与端口寄存器</a:t>
            </a:r>
            <a:r>
              <a:rPr b="1" lang="zh-CN" sz="3200" spc="-1" strike="noStrike">
                <a:solidFill>
                  <a:srgbClr val="ff9900"/>
                </a:solidFill>
                <a:latin typeface="Arial Unicode MS"/>
                <a:ea typeface="Times New Roman"/>
              </a:rPr>
              <a:t>	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47920" y="1676160"/>
            <a:ext cx="53100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．软盘驱动器的控制命令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514600"/>
            <a:ext cx="78483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软盘驱动器的控制命令如下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READ DATA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读扇区、磁道及磁面数据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READ DELETE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读删除数据的扇区、磁道及磁面    数据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WRITE DATA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写数据到扇区、磁道及磁面数据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WRITE DELETE DATA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写删除的数据到扇区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85800" y="1066680"/>
            <a:ext cx="77724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磁道及磁面数据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REDA A TRACK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读一个完整磁道上的数据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READ ID     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读扇区标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FORMAT TRACK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格式化所选择的扇区、磁道及磁面数据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CAN EQUAL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查找信息相等时设置标志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CAN LOW &amp; EQUAL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查找信息小于相等时设置标志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533520" y="1143000"/>
            <a:ext cx="80010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CAN HIGH &amp; EQUAL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查找信息大于相等时设置标志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RECALIBRATE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磁头复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ENSE INTERRUPT STATUS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检测驱动器的中断状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PECIFY     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设置参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ENSE DRIVE  STATUS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检测驱动器中断状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EEK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搜索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1676520" y="1447560"/>
            <a:ext cx="63770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软盘控制器的端口寄存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752480" y="2286000"/>
            <a:ext cx="69343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软盘控制器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FDC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共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个端口寄存器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F2H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写）：方式选择寄存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F4H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读）：主状态寄存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F5H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写）：命令系列寄存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F5H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读）：结果系列寄存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752480" y="4876920"/>
            <a:ext cx="464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90720" y="51814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8.11  FDC 3F2H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方式选择寄存器各位说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2666880" y="91404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．各寄存器内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052720" y="28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52280" y="2282760"/>
            <a:ext cx="8763120" cy="21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50292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8.12  FDC 3F4H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主状态寄存器各位说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38880" y="6324480"/>
            <a:ext cx="15796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9900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05272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30592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3000" y="973080"/>
            <a:ext cx="646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 Unicode MS"/>
                <a:ea typeface="Times New Roman"/>
              </a:rPr>
              <a:t>8.3  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硬盘驱动器接口电路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7596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f89f7"/>
                </a:solidFill>
                <a:uFillTx/>
                <a:latin typeface="Arial Unicode MS"/>
                <a:ea typeface="Times New Roman"/>
                <a:hlinkClick r:id="rId3" action="ppaction://hlinksldjump"/>
              </a:rPr>
              <a:t>8.3.1  </a:t>
            </a:r>
            <a:r>
              <a:rPr b="0" lang="zh-CN" sz="3200" spc="-1" strike="noStrike" u="sng">
                <a:solidFill>
                  <a:srgbClr val="6f89f7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硬盘驱动器的组成原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f89f7"/>
                </a:solidFill>
                <a:uFillTx/>
                <a:latin typeface="Arial Unicode MS"/>
                <a:ea typeface="Times New Roman"/>
                <a:hlinkClick r:id="rId6" action="ppaction://hlinksldjump"/>
              </a:rPr>
              <a:t>8.3.2  </a:t>
            </a:r>
            <a:r>
              <a:rPr b="0" lang="zh-CN" sz="3200" spc="-1" strike="noStrike" u="sng">
                <a:solidFill>
                  <a:srgbClr val="6f89f7"/>
                </a:solidFill>
                <a:uFillTx/>
                <a:latin typeface="Times New Roman"/>
                <a:ea typeface="Times New Roman"/>
                <a:hlinkClick r:id="rId7" action="ppaction://hlinksldjump"/>
              </a:rPr>
              <a:t>硬盘适配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f89f7"/>
                </a:solidFill>
                <a:uFillTx/>
                <a:latin typeface="Arial Unicode MS"/>
                <a:ea typeface="Times New Roman"/>
                <a:hlinkClick r:id="rId9" action="ppaction://hlinksldjump"/>
              </a:rPr>
              <a:t>8.3.3  </a:t>
            </a:r>
            <a:r>
              <a:rPr b="0" lang="zh-CN" sz="3200" spc="-1" strike="noStrike" u="sng">
                <a:solidFill>
                  <a:srgbClr val="6f89f7"/>
                </a:solidFill>
                <a:uFillTx/>
                <a:latin typeface="Times New Roman"/>
                <a:ea typeface="Times New Roman"/>
                <a:hlinkClick r:id="rId10" action="ppaction://hlinksldjump"/>
              </a:rPr>
              <a:t>硬盘驱动器数据线的线缆标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f89f7"/>
                </a:solidFill>
                <a:uFillTx/>
                <a:latin typeface="Arial Unicode MS"/>
                <a:ea typeface="Times New Roman"/>
                <a:hlinkClick r:id="rId12" action="ppaction://hlinksldjump"/>
              </a:rPr>
              <a:t>8.3.4  </a:t>
            </a:r>
            <a:r>
              <a:rPr b="0" lang="zh-CN" sz="3200" spc="-1" strike="noStrike" u="sng">
                <a:solidFill>
                  <a:srgbClr val="6f89f7"/>
                </a:solidFill>
                <a:uFillTx/>
                <a:latin typeface="Times New Roman"/>
                <a:ea typeface="Times New Roman"/>
                <a:hlinkClick r:id="rId13" action="ppaction://hlinksldjump"/>
              </a:rPr>
              <a:t>增强</a:t>
            </a:r>
            <a:r>
              <a:rPr b="0" lang="zh-CN" sz="3200" spc="-1" strike="noStrike" u="sng">
                <a:solidFill>
                  <a:srgbClr val="6f89f7"/>
                </a:solidFill>
                <a:uFillTx/>
                <a:latin typeface="Arial Unicode MS"/>
                <a:ea typeface="Times New Roman"/>
                <a:hlinkClick r:id="rId14" action="ppaction://hlinksldjump"/>
              </a:rPr>
              <a:t>IDE</a:t>
            </a:r>
            <a:r>
              <a:rPr b="0" lang="zh-CN" sz="3200" spc="-1" strike="noStrike" u="sng">
                <a:solidFill>
                  <a:srgbClr val="6f89f7"/>
                </a:solidFill>
                <a:uFillTx/>
                <a:latin typeface="Times New Roman"/>
                <a:ea typeface="Times New Roman"/>
                <a:hlinkClick r:id="rId15" action="ppaction://hlinksldjump"/>
              </a:rPr>
              <a:t>（</a:t>
            </a:r>
            <a:r>
              <a:rPr b="0" lang="zh-CN" sz="3200" spc="-1" strike="noStrike" u="sng">
                <a:solidFill>
                  <a:srgbClr val="6f89f7"/>
                </a:solidFill>
                <a:uFillTx/>
                <a:latin typeface="Arial Unicode MS"/>
                <a:ea typeface="Times New Roman"/>
                <a:hlinkClick r:id="rId16" action="ppaction://hlinksldjump"/>
              </a:rPr>
              <a:t>EIDE</a:t>
            </a:r>
            <a:r>
              <a:rPr b="0" lang="zh-CN" sz="3200" spc="-1" strike="noStrike" u="sng">
                <a:solidFill>
                  <a:srgbClr val="6f89f7"/>
                </a:solidFill>
                <a:uFillTx/>
                <a:latin typeface="Times New Roman"/>
                <a:ea typeface="Times New Roman"/>
                <a:hlinkClick r:id="rId17" action="ppaction://hlinksldjump"/>
              </a:rPr>
              <a:t>或</a:t>
            </a:r>
            <a:r>
              <a:rPr b="0" lang="zh-CN" sz="3200" spc="-1" strike="noStrike" u="sng">
                <a:solidFill>
                  <a:srgbClr val="6f89f7"/>
                </a:solidFill>
                <a:uFillTx/>
                <a:latin typeface="Arial Unicode MS"/>
                <a:ea typeface="Times New Roman"/>
                <a:hlinkClick r:id="rId18" action="ppaction://hlinksldjump"/>
              </a:rPr>
              <a:t>ATA-2</a:t>
            </a:r>
            <a:r>
              <a:rPr b="0" lang="zh-CN" sz="3200" spc="-1" strike="noStrike" u="sng">
                <a:solidFill>
                  <a:srgbClr val="6f89f7"/>
                </a:solidFill>
                <a:uFillTx/>
                <a:latin typeface="Times New Roman"/>
                <a:ea typeface="Times New Roman"/>
                <a:hlinkClick r:id="rId19" action="ppaction://hlinksldjump"/>
              </a:rPr>
              <a:t>）</a:t>
            </a:r>
            <a:r>
              <a:rPr b="0" lang="zh-CN" sz="3200" spc="-1" strike="noStrike" u="sng">
                <a:solidFill>
                  <a:srgbClr val="6f89f7"/>
                </a:solidFill>
                <a:uFillTx/>
                <a:latin typeface="Times New Roman"/>
                <a:ea typeface="Times New Roman"/>
                <a:hlinkClick r:id="rId20" action="ppaction://hlinksldjump"/>
              </a:rPr>
              <a:t>接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>
            <a:hlinkClick r:id="rId21" action="ppaction://hlinksldjump"/>
          </p:cNvPr>
          <p:cNvSpPr/>
          <p:nvPr/>
        </p:nvSpPr>
        <p:spPr>
          <a:xfrm>
            <a:off x="6934320" y="6324480"/>
            <a:ext cx="188424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Times New Roman"/>
              </a:rPr>
              <a:t>返回本章首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1760" y="973080"/>
            <a:ext cx="7683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 Unicode MS"/>
                <a:ea typeface="Times New Roman"/>
              </a:rPr>
              <a:t>8.3.1  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硬盘驱动器的组成原理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447920" y="533412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520" y="2133360"/>
            <a:ext cx="820908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　　硬盘驱动器是将硬盘机构与控制机构的电路密封在一起构成的，硬盘驱动器通过数据电缆线与计算机主板中的硬盘适配器相连。硬盘适配器电路主要包括硬盘接口电路、硬盘控制器电路。其结构如图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8.1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447920" y="5791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图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8.13  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硬盘驱动器的基本组成示意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4328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rcRect l="1187" t="0" r="1506" b="5822"/>
          <a:stretch/>
        </p:blipFill>
        <p:spPr>
          <a:xfrm>
            <a:off x="609480" y="990720"/>
            <a:ext cx="7772400" cy="45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590560" y="1066680"/>
            <a:ext cx="386244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硬盘主轴系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38080" y="21337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　　主轴的作用是传递硬盘主轴电机的转速，使硬盘盘片以额定的速度稳定地转动。硬盘主轴系统由主轴电机和电机控制电路组成。其工作过程如图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8.14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所示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5640" y="973080"/>
            <a:ext cx="501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 Unicode MS"/>
                <a:ea typeface="Times New Roman"/>
              </a:rPr>
              <a:t>8.1.1  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磁记录原理</a:t>
            </a:r>
            <a:r>
              <a:rPr b="1" lang="zh-CN" sz="3600" spc="-1" strike="noStrike">
                <a:solidFill>
                  <a:srgbClr val="ff9900"/>
                </a:solidFill>
                <a:latin typeface="Arial Unicode MS"/>
                <a:ea typeface="Times New Roman"/>
              </a:rPr>
              <a:t>	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680" y="1941120"/>
            <a:ext cx="8208720" cy="25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　　磁记录是以磁介质受外磁场的磁化，当去掉外磁场后仍有介质剩余磁化状态这一性质为基本原理。磁盘机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HDD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FDD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是由介质、读写磁头、读写电路、马达及伺服驱动电路等组成。磁盘的读写原理如图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8.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828800" y="52578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图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8.14  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主轴电机稳速电路示意图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52720" y="27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815328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2438280" y="990360"/>
            <a:ext cx="60753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硬盘读写磁头系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85800" y="23623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　　硬盘读写磁头系统由悬浮式或浮式磁头、读写头控制电路组成。硬盘采用悬浮式磁头而不是软盘驱动器的接触式磁头，读写头电路如图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8.15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所示，由磁头选择逻辑、磁头写驱动电路、磁头驱动线圈、读出电路及状态检测电路组成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371600" y="55627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图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8.15  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硬盘写电路组成示意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0984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382240" cy="31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2209680" y="990360"/>
            <a:ext cx="41673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磁头定位系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057400" y="2514600"/>
            <a:ext cx="47242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１）初始定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　（２）准备定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　（３）检查出错标志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　（４）磁头小车启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　（５）返回信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09680" y="182880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需要分成以下几步进行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905120" y="914040"/>
            <a:ext cx="584352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硬盘驱动器的控制逻辑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21337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　　硬盘驱动器的控制逻辑包括控制与检测两个过程。前者包括对主轴电机、磁头控制电机等进行的稳速控制、位置控制、启动停止控制过程；后者包括主轴索标传感器、位置传感器、速度传感器测量的索标周期、定位标记和磁头运动速度的检测过程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238880" y="6324480"/>
            <a:ext cx="15796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4560" y="973080"/>
            <a:ext cx="8140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 Unicode MS"/>
                <a:ea typeface="Times New Roman"/>
              </a:rPr>
              <a:t>8.3.2  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硬盘适配器</a:t>
            </a:r>
            <a:r>
              <a:rPr b="1" lang="zh-CN" sz="3600" spc="-1" strike="noStrike">
                <a:solidFill>
                  <a:srgbClr val="ff9900"/>
                </a:solidFill>
                <a:latin typeface="Arial Unicode MS"/>
                <a:ea typeface="Times New Roman"/>
              </a:rPr>
              <a:t>	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2209320"/>
            <a:ext cx="8004240" cy="21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　　硬盘驱动器的控制电路主要包括两个部分，一是硬盘适配器部分它位于微机系统的一侧 ；二是读写逻辑，位于硬盘驱动器内。它们通过数据及控制电缆线相连接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04560" y="990360"/>
            <a:ext cx="515772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硬盘适配器的组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9480" y="2590920"/>
            <a:ext cx="82296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扇区缓冲器　　　　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数据缓冲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硬盘控制器　　　　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接口控制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驱动器选择控制器　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数据分离电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写预补偿电路       　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驱动电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系统接口信号　　　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硬盘驱动器接口信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85800" y="175248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硬盘适配器（如图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8.16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所示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40984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19160" y="11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rcRect l="0" t="0" r="0" b="6858"/>
          <a:stretch/>
        </p:blipFill>
        <p:spPr>
          <a:xfrm>
            <a:off x="1752480" y="762120"/>
            <a:ext cx="5943600" cy="51750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3141720" y="6095880"/>
            <a:ext cx="28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8.16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硬盘适配器电路框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43000" y="2133720"/>
            <a:ext cx="6858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常见几种硬盘接口的数据及信号电缆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进出数据分离电路的信号线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到达写预补偿和同步电路的信号线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进出缓冲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接收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/O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的信号线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2120" y="106668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硬盘驱动器数据电缆信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600200" y="62326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00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ff9900"/>
                </a:solidFill>
                <a:latin typeface="Times New Roman"/>
              </a:rPr>
              <a:t>8.17  Intel 8272A </a:t>
            </a:r>
            <a:r>
              <a:rPr b="1" lang="zh-CN" sz="2000" spc="-1" strike="noStrike">
                <a:solidFill>
                  <a:srgbClr val="ff9900"/>
                </a:solidFill>
                <a:latin typeface="Times New Roman"/>
              </a:rPr>
              <a:t>内部结构示意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7621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）硬盘控制器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INTEL 8272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0383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32448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324160" y="557676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图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8.1  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磁盘读写原理示意图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3840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38880" y="6324480"/>
            <a:ext cx="15796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9900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3840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620120" cy="37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0" y="1143000"/>
            <a:ext cx="6629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HDC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硬盘命令及端口寄存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如表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8.3~8.6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图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8.18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所示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133720" y="2514600"/>
            <a:ext cx="5410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硬盘驱动器命令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硬盘驱动器控制器的端口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序列寄存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端口编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752480" y="533520"/>
            <a:ext cx="541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8.3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硬盘驱动器控制器的端口寄存器地址、内容、用途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838080" y="1828800"/>
            <a:ext cx="7314840" cy="4266720"/>
            <a:chOff x="838080" y="1828800"/>
            <a:chExt cx="7314840" cy="4266720"/>
          </a:xfrm>
        </p:grpSpPr>
        <p:grpSp>
          <p:nvGrpSpPr>
            <p:cNvPr id="234" name=""/>
            <p:cNvGrpSpPr/>
            <p:nvPr/>
          </p:nvGrpSpPr>
          <p:grpSpPr>
            <a:xfrm>
              <a:off x="846360" y="1836360"/>
              <a:ext cx="7297200" cy="4249440"/>
              <a:chOff x="846360" y="1836360"/>
              <a:chExt cx="7297200" cy="424944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846360" y="1836360"/>
                <a:ext cx="2169720" cy="988560"/>
                <a:chOff x="846360" y="1836360"/>
                <a:chExt cx="2169720" cy="98856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967680" y="1836360"/>
                  <a:ext cx="1927440" cy="98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Arial"/>
                      <a:ea typeface="黑体"/>
                    </a:rPr>
                    <a:t>端口寄存器地址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846360" y="1836360"/>
                  <a:ext cx="2169720" cy="988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3016440" y="1836360"/>
                <a:ext cx="2220840" cy="988560"/>
                <a:chOff x="3016440" y="1836360"/>
                <a:chExt cx="2220840" cy="98856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3137760" y="1836360"/>
                  <a:ext cx="1978560" cy="98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Arial"/>
                      <a:ea typeface="黑体"/>
                    </a:rPr>
                    <a:t>内容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3016440" y="1836360"/>
                  <a:ext cx="2220840" cy="988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" name=""/>
              <p:cNvGrpSpPr/>
              <p:nvPr/>
            </p:nvGrpSpPr>
            <p:grpSpPr>
              <a:xfrm>
                <a:off x="5237640" y="1836360"/>
                <a:ext cx="2905920" cy="988560"/>
                <a:chOff x="5237640" y="1836360"/>
                <a:chExt cx="2905920" cy="98856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358960" y="1836360"/>
                  <a:ext cx="2662920" cy="98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Arial"/>
                      <a:ea typeface="黑体"/>
                    </a:rPr>
                    <a:t>用途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37640" y="1836360"/>
                  <a:ext cx="2905920" cy="988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846360" y="2825280"/>
                <a:ext cx="2169720" cy="3260520"/>
                <a:chOff x="846360" y="2825280"/>
                <a:chExt cx="2169720" cy="326052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967680" y="2825280"/>
                  <a:ext cx="1927440" cy="326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320H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（写）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320H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（读）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321H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（读）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321H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（写）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846360" y="2825280"/>
                  <a:ext cx="2169720" cy="326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3016440" y="2825280"/>
                <a:ext cx="2220840" cy="3260520"/>
                <a:chOff x="3016440" y="2825280"/>
                <a:chExt cx="2220840" cy="326052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3137760" y="2825280"/>
                  <a:ext cx="1978560" cy="326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命令序列寄存器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错误序列寄存器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硬件状态寄存器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方式选择寄存器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3016440" y="2825280"/>
                  <a:ext cx="2220840" cy="326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" name=""/>
              <p:cNvGrpSpPr/>
              <p:nvPr/>
            </p:nvGrpSpPr>
            <p:grpSpPr>
              <a:xfrm>
                <a:off x="5237640" y="2825280"/>
                <a:ext cx="2905920" cy="3260520"/>
                <a:chOff x="5237640" y="2825280"/>
                <a:chExt cx="2905920" cy="326052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5358960" y="2825280"/>
                  <a:ext cx="2662920" cy="326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发出磁盘操作命令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出错与否及错误住处序列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返回控制状态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5237640" y="2825280"/>
                  <a:ext cx="2905920" cy="326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3" name=""/>
            <p:cNvSpPr/>
            <p:nvPr/>
          </p:nvSpPr>
          <p:spPr>
            <a:xfrm>
              <a:off x="838080" y="1828800"/>
              <a:ext cx="7314840" cy="42667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5486400" y="53341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驱动器、工作模式等选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981080" y="99072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8.4  320H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命令序列寄存器的内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57200" y="1828800"/>
            <a:ext cx="8305560" cy="4266720"/>
            <a:chOff x="457200" y="1828800"/>
            <a:chExt cx="8305560" cy="4266720"/>
          </a:xfrm>
        </p:grpSpPr>
        <p:grpSp>
          <p:nvGrpSpPr>
            <p:cNvPr id="257" name=""/>
            <p:cNvGrpSpPr/>
            <p:nvPr/>
          </p:nvGrpSpPr>
          <p:grpSpPr>
            <a:xfrm>
              <a:off x="466200" y="1834200"/>
              <a:ext cx="8285040" cy="4254840"/>
              <a:chOff x="466200" y="1834200"/>
              <a:chExt cx="8285040" cy="4254840"/>
            </a:xfrm>
          </p:grpSpPr>
          <p:grpSp>
            <p:nvGrpSpPr>
              <p:cNvPr id="258" name=""/>
              <p:cNvGrpSpPr/>
              <p:nvPr/>
            </p:nvGrpSpPr>
            <p:grpSpPr>
              <a:xfrm>
                <a:off x="466200" y="1834200"/>
                <a:ext cx="2329920" cy="687600"/>
                <a:chOff x="466200" y="1834200"/>
                <a:chExt cx="2329920" cy="68760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602640" y="1834200"/>
                  <a:ext cx="2056320" cy="68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Arial"/>
                      <a:ea typeface="黑体"/>
                    </a:rPr>
                    <a:t>寄存器数据位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466200" y="1834200"/>
                  <a:ext cx="2329920" cy="68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2796480" y="1834200"/>
                <a:ext cx="5954760" cy="687600"/>
                <a:chOff x="2796480" y="1834200"/>
                <a:chExt cx="5954760" cy="68760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2932200" y="1834200"/>
                  <a:ext cx="5682600" cy="68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 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7   6   5  4     3    2    1    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2796480" y="1834200"/>
                  <a:ext cx="5954760" cy="68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466200" y="2522160"/>
                <a:ext cx="2329920" cy="594360"/>
                <a:chOff x="466200" y="2522160"/>
                <a:chExt cx="2329920" cy="59436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602640" y="2522160"/>
                  <a:ext cx="2056320" cy="59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 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字节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466200" y="2522160"/>
                  <a:ext cx="2329920" cy="59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2796480" y="2522160"/>
                <a:ext cx="1872000" cy="594360"/>
                <a:chOff x="2796480" y="2522160"/>
                <a:chExt cx="1872000" cy="59436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2932200" y="2522160"/>
                  <a:ext cx="1599840" cy="59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操作类型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2796480" y="2522160"/>
                  <a:ext cx="1872000" cy="59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4668840" y="2522160"/>
                <a:ext cx="4082400" cy="594360"/>
                <a:chOff x="4668840" y="2522160"/>
                <a:chExt cx="4082400" cy="59436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4805280" y="2522160"/>
                  <a:ext cx="3809520" cy="59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       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操作码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668840" y="2522160"/>
                  <a:ext cx="4082400" cy="59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466200" y="3117240"/>
                <a:ext cx="2329920" cy="594000"/>
                <a:chOff x="466200" y="3117240"/>
                <a:chExt cx="2329920" cy="5940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602640" y="3117240"/>
                  <a:ext cx="2056320" cy="59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 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字节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466200" y="3117240"/>
                  <a:ext cx="2329920" cy="59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796480" y="3117240"/>
                <a:ext cx="1872000" cy="594000"/>
                <a:chOff x="2796480" y="3117240"/>
                <a:chExt cx="1872000" cy="59400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932200" y="3117240"/>
                  <a:ext cx="1599840" cy="59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驱动器号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796480" y="3117240"/>
                  <a:ext cx="1872000" cy="59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668840" y="3117240"/>
                <a:ext cx="4082400" cy="594000"/>
                <a:chOff x="4668840" y="3117240"/>
                <a:chExt cx="4082400" cy="59400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05280" y="3117240"/>
                  <a:ext cx="3809520" cy="59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       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磁头号（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0——3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）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668840" y="3117240"/>
                  <a:ext cx="4082400" cy="59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466200" y="3711600"/>
                <a:ext cx="2329920" cy="594000"/>
                <a:chOff x="466200" y="3711600"/>
                <a:chExt cx="2329920" cy="59400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02640" y="3711600"/>
                  <a:ext cx="2056320" cy="59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 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字节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466200" y="3711600"/>
                  <a:ext cx="2329920" cy="59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2796480" y="3711600"/>
                <a:ext cx="1872000" cy="594000"/>
                <a:chOff x="2796480" y="3711600"/>
                <a:chExt cx="1872000" cy="59400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2932200" y="3711600"/>
                  <a:ext cx="1599840" cy="59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磁道号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H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2796480" y="3711600"/>
                  <a:ext cx="1872000" cy="59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4668840" y="3711600"/>
                <a:ext cx="4082400" cy="594000"/>
                <a:chOff x="4668840" y="3711600"/>
                <a:chExt cx="4082400" cy="59400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4805280" y="3711600"/>
                  <a:ext cx="3809520" cy="59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       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扇区号（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1——17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）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4668840" y="3711600"/>
                  <a:ext cx="4082400" cy="59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66200" y="4305960"/>
                <a:ext cx="2329920" cy="594360"/>
                <a:chOff x="466200" y="4305960"/>
                <a:chExt cx="2329920" cy="5943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602640" y="4305960"/>
                  <a:ext cx="2056320" cy="59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 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字节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66200" y="4305960"/>
                  <a:ext cx="2329920" cy="59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2796480" y="4305960"/>
                <a:ext cx="5954760" cy="594360"/>
                <a:chOff x="2796480" y="4305960"/>
                <a:chExt cx="5954760" cy="5943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2932200" y="4305960"/>
                  <a:ext cx="5682600" cy="59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                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磁道号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L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（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306/7120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）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2796480" y="4305960"/>
                  <a:ext cx="5954760" cy="59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466200" y="4900680"/>
                <a:ext cx="2329920" cy="594000"/>
                <a:chOff x="466200" y="4900680"/>
                <a:chExt cx="2329920" cy="59400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602640" y="4900680"/>
                  <a:ext cx="2056320" cy="59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 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字节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466200" y="4900680"/>
                  <a:ext cx="2329920" cy="59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796480" y="4900680"/>
                <a:ext cx="5954760" cy="594000"/>
                <a:chOff x="2796480" y="4900680"/>
                <a:chExt cx="5954760" cy="59400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932200" y="4900680"/>
                  <a:ext cx="5682600" cy="59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                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读写块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796480" y="4900680"/>
                  <a:ext cx="5954760" cy="59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66200" y="5495040"/>
                <a:ext cx="2329920" cy="594000"/>
                <a:chOff x="466200" y="5495040"/>
                <a:chExt cx="2329920" cy="59400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602640" y="5495040"/>
                  <a:ext cx="2056320" cy="59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 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字节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66200" y="5495040"/>
                  <a:ext cx="2329920" cy="59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2796480" y="5495040"/>
                <a:ext cx="5954760" cy="594000"/>
                <a:chOff x="2796480" y="5495040"/>
                <a:chExt cx="5954760" cy="59400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2932200" y="5495040"/>
                  <a:ext cx="5682600" cy="59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                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控制字段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2796480" y="5495040"/>
                  <a:ext cx="5954760" cy="59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9" name=""/>
            <p:cNvSpPr/>
            <p:nvPr/>
          </p:nvSpPr>
          <p:spPr>
            <a:xfrm>
              <a:off x="457200" y="1828800"/>
              <a:ext cx="8305560" cy="42667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447920" y="11430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8.5  320H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错误序列寄存器字节的格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066680" y="1905120"/>
            <a:ext cx="7010280" cy="3428640"/>
            <a:chOff x="1066680" y="1905120"/>
            <a:chExt cx="7010280" cy="3428640"/>
          </a:xfrm>
        </p:grpSpPr>
        <p:grpSp>
          <p:nvGrpSpPr>
            <p:cNvPr id="312" name=""/>
            <p:cNvGrpSpPr/>
            <p:nvPr/>
          </p:nvGrpSpPr>
          <p:grpSpPr>
            <a:xfrm>
              <a:off x="1074240" y="1910880"/>
              <a:ext cx="6994440" cy="3415680"/>
              <a:chOff x="1074240" y="1910880"/>
              <a:chExt cx="6994440" cy="341568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1074240" y="1910880"/>
                <a:ext cx="1884960" cy="766440"/>
                <a:chOff x="1074240" y="1910880"/>
                <a:chExt cx="1884960" cy="76644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1184760" y="1910880"/>
                  <a:ext cx="1663560" cy="76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Arial"/>
                      <a:ea typeface="黑体"/>
                    </a:rPr>
                    <a:t>寄存器中的各位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1074240" y="1910880"/>
                  <a:ext cx="1884960" cy="76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2959560" y="1910880"/>
                <a:ext cx="5108760" cy="766440"/>
                <a:chOff x="2959560" y="1910880"/>
                <a:chExt cx="5108760" cy="76644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3069360" y="1910880"/>
                  <a:ext cx="4888080" cy="76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2959560" y="1910880"/>
                  <a:ext cx="5108760" cy="76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1074240" y="2677680"/>
                <a:ext cx="1884960" cy="662040"/>
                <a:chOff x="1074240" y="2677680"/>
                <a:chExt cx="1884960" cy="66204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1184760" y="2677680"/>
                  <a:ext cx="1663560" cy="66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字节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1074240" y="2677680"/>
                  <a:ext cx="1884960" cy="66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2959560" y="2677680"/>
                <a:ext cx="1944000" cy="662040"/>
                <a:chOff x="2959560" y="2677680"/>
                <a:chExt cx="1944000" cy="66204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3069360" y="2677680"/>
                  <a:ext cx="1723320" cy="66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地址有效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2959560" y="2677680"/>
                  <a:ext cx="1944000" cy="66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4904280" y="2677680"/>
                <a:ext cx="1635840" cy="662040"/>
                <a:chOff x="4904280" y="2677680"/>
                <a:chExt cx="1635840" cy="66204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014800" y="2677680"/>
                  <a:ext cx="1414440" cy="66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错误类型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904280" y="2677680"/>
                  <a:ext cx="1635840" cy="66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6540480" y="2677680"/>
                <a:ext cx="1527840" cy="662040"/>
                <a:chOff x="6540480" y="2677680"/>
                <a:chExt cx="1527840" cy="66204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651000" y="2677680"/>
                  <a:ext cx="1306440" cy="66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错误码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6540480" y="2677680"/>
                  <a:ext cx="1527840" cy="66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1074240" y="3340080"/>
                <a:ext cx="1884960" cy="661680"/>
                <a:chOff x="1074240" y="3340080"/>
                <a:chExt cx="1884960" cy="66168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1184760" y="3340080"/>
                  <a:ext cx="1663560" cy="661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字节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1074240" y="3340080"/>
                  <a:ext cx="1884960" cy="66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2959560" y="3340080"/>
                <a:ext cx="1944000" cy="661680"/>
                <a:chOff x="2959560" y="3340080"/>
                <a:chExt cx="1944000" cy="66168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3069360" y="3340080"/>
                  <a:ext cx="1723320" cy="661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驱动器号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2959560" y="3340080"/>
                  <a:ext cx="1944000" cy="66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" name=""/>
              <p:cNvGrpSpPr/>
              <p:nvPr/>
            </p:nvGrpSpPr>
            <p:grpSpPr>
              <a:xfrm>
                <a:off x="4904280" y="3340080"/>
                <a:ext cx="3164400" cy="661680"/>
                <a:chOff x="4904280" y="3340080"/>
                <a:chExt cx="3164400" cy="66168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5014800" y="3340080"/>
                  <a:ext cx="2943000" cy="661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  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磁头号（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0—3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）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4904280" y="3340080"/>
                  <a:ext cx="3164400" cy="66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1074240" y="4002480"/>
                <a:ext cx="1884960" cy="661680"/>
                <a:chOff x="1074240" y="4002480"/>
                <a:chExt cx="1884960" cy="66168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1184760" y="4002480"/>
                  <a:ext cx="1663560" cy="661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字节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1074240" y="4002480"/>
                  <a:ext cx="1884960" cy="66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2959560" y="4002480"/>
                <a:ext cx="1944000" cy="661680"/>
                <a:chOff x="2959560" y="4002480"/>
                <a:chExt cx="1944000" cy="66168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3069360" y="4002480"/>
                  <a:ext cx="1723320" cy="661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磁道号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H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2959560" y="4002480"/>
                  <a:ext cx="1944000" cy="66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" name=""/>
              <p:cNvGrpSpPr/>
              <p:nvPr/>
            </p:nvGrpSpPr>
            <p:grpSpPr>
              <a:xfrm>
                <a:off x="4904280" y="4002480"/>
                <a:ext cx="3164400" cy="661680"/>
                <a:chOff x="4904280" y="4002480"/>
                <a:chExt cx="3164400" cy="66168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5014800" y="4002480"/>
                  <a:ext cx="2943000" cy="661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  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扇区号（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0—17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）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4904280" y="4002480"/>
                  <a:ext cx="3164400" cy="661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1074240" y="4664520"/>
                <a:ext cx="1884960" cy="662040"/>
                <a:chOff x="1074240" y="4664520"/>
                <a:chExt cx="1884960" cy="66204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1184760" y="4664520"/>
                  <a:ext cx="1663560" cy="66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字节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1074240" y="4664520"/>
                  <a:ext cx="1884960" cy="66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" name=""/>
              <p:cNvGrpSpPr/>
              <p:nvPr/>
            </p:nvGrpSpPr>
            <p:grpSpPr>
              <a:xfrm>
                <a:off x="2959560" y="4664520"/>
                <a:ext cx="5108760" cy="662040"/>
                <a:chOff x="2959560" y="4664520"/>
                <a:chExt cx="5108760" cy="66204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3069360" y="4664520"/>
                  <a:ext cx="4888080" cy="66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     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磁道号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L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2959560" y="4664520"/>
                  <a:ext cx="5108760" cy="66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55" name=""/>
            <p:cNvSpPr/>
            <p:nvPr/>
          </p:nvSpPr>
          <p:spPr>
            <a:xfrm>
              <a:off x="1066680" y="1905120"/>
              <a:ext cx="7010280" cy="34286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3505320" y="21337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7    6    5     4      3    2     1 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1447920" y="9144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8.6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命令序列寄存器字节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的错误类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914400" y="1752480"/>
            <a:ext cx="7467120" cy="4343040"/>
            <a:chOff x="914400" y="1752480"/>
            <a:chExt cx="7467120" cy="4343040"/>
          </a:xfrm>
        </p:grpSpPr>
        <p:grpSp>
          <p:nvGrpSpPr>
            <p:cNvPr id="359" name=""/>
            <p:cNvGrpSpPr/>
            <p:nvPr/>
          </p:nvGrpSpPr>
          <p:grpSpPr>
            <a:xfrm>
              <a:off x="921240" y="1757880"/>
              <a:ext cx="7452000" cy="4330800"/>
              <a:chOff x="921240" y="1757880"/>
              <a:chExt cx="7452000" cy="4330800"/>
            </a:xfrm>
          </p:grpSpPr>
          <p:grpSp>
            <p:nvGrpSpPr>
              <p:cNvPr id="360" name=""/>
              <p:cNvGrpSpPr/>
              <p:nvPr/>
            </p:nvGrpSpPr>
            <p:grpSpPr>
              <a:xfrm>
                <a:off x="921240" y="1757880"/>
                <a:ext cx="1958400" cy="721800"/>
                <a:chOff x="921240" y="1757880"/>
                <a:chExt cx="1958400" cy="72180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1025640" y="1757880"/>
                  <a:ext cx="1749600" cy="72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Arial"/>
                      <a:ea typeface="黑体"/>
                    </a:rPr>
                    <a:t>错误码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921240" y="1757880"/>
                  <a:ext cx="1958400" cy="72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2880000" y="1757880"/>
                <a:ext cx="2658600" cy="721800"/>
                <a:chOff x="2880000" y="1757880"/>
                <a:chExt cx="2658600" cy="72180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2984400" y="1757880"/>
                  <a:ext cx="2449800" cy="72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Arial"/>
                      <a:ea typeface="黑体"/>
                    </a:rPr>
                    <a:t>错误类型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2880000" y="1757880"/>
                  <a:ext cx="2658600" cy="72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5539320" y="1757880"/>
                <a:ext cx="2833920" cy="721800"/>
                <a:chOff x="5539320" y="1757880"/>
                <a:chExt cx="2833920" cy="72180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5643720" y="1757880"/>
                  <a:ext cx="2625120" cy="72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Arial"/>
                      <a:ea typeface="黑体"/>
                    </a:rPr>
                    <a:t>出错内容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5539320" y="1757880"/>
                  <a:ext cx="2833920" cy="72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921240" y="2480040"/>
                <a:ext cx="1958400" cy="1202400"/>
                <a:chOff x="921240" y="2480040"/>
                <a:chExt cx="1958400" cy="120240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1025640" y="2480040"/>
                  <a:ext cx="1749600" cy="12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ST0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921240" y="2480040"/>
                  <a:ext cx="1958400" cy="120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2880000" y="2480040"/>
                <a:ext cx="2658600" cy="1202400"/>
                <a:chOff x="2880000" y="2480040"/>
                <a:chExt cx="2658600" cy="120240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2984400" y="2480040"/>
                  <a:ext cx="2449800" cy="12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硬件故障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2880000" y="2480040"/>
                  <a:ext cx="2658600" cy="120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5539320" y="2480040"/>
                <a:ext cx="2833920" cy="1202400"/>
                <a:chOff x="5539320" y="2480040"/>
                <a:chExt cx="2833920" cy="120240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5643720" y="2480040"/>
                  <a:ext cx="2625120" cy="12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命令非正常结束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无效命令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驱动器未准备就绪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5539320" y="2480040"/>
                  <a:ext cx="2833920" cy="120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921240" y="3682800"/>
                <a:ext cx="1958400" cy="1203120"/>
                <a:chOff x="921240" y="3682800"/>
                <a:chExt cx="1958400" cy="120312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1025640" y="3682800"/>
                  <a:ext cx="1749600" cy="12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ST1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921240" y="3682800"/>
                  <a:ext cx="1958400" cy="12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2880000" y="3682800"/>
                <a:ext cx="2658600" cy="1203120"/>
                <a:chOff x="2880000" y="3682800"/>
                <a:chExt cx="2658600" cy="120312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2984400" y="3682800"/>
                  <a:ext cx="2449800" cy="12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传送数据故障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2880000" y="3682800"/>
                  <a:ext cx="2658600" cy="12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5539320" y="3682800"/>
                <a:ext cx="2833920" cy="1203120"/>
                <a:chOff x="5539320" y="3682800"/>
                <a:chExt cx="2833920" cy="120312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5643720" y="3682800"/>
                  <a:ext cx="2625120" cy="12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无标识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ID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CRC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校验错误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找不到指定扇区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5539320" y="3682800"/>
                  <a:ext cx="2833920" cy="12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921240" y="4886280"/>
                <a:ext cx="1958400" cy="1202400"/>
                <a:chOff x="921240" y="4886280"/>
                <a:chExt cx="1958400" cy="120240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1025640" y="4886280"/>
                  <a:ext cx="1749600" cy="12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ST2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921240" y="4886280"/>
                  <a:ext cx="1958400" cy="120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2880000" y="4886280"/>
                <a:ext cx="2658600" cy="1202400"/>
                <a:chOff x="2880000" y="4886280"/>
                <a:chExt cx="2658600" cy="120240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2984400" y="4886280"/>
                  <a:ext cx="2449800" cy="12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磁盘故障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2880000" y="4886280"/>
                  <a:ext cx="2658600" cy="120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5539320" y="4886280"/>
                <a:ext cx="2833920" cy="1202400"/>
                <a:chOff x="5539320" y="4886280"/>
                <a:chExt cx="2833920" cy="120240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5643720" y="4886280"/>
                  <a:ext cx="2625120" cy="12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磁道不符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磁道坏标记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FF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读时含删除标记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5539320" y="4886280"/>
                  <a:ext cx="2833920" cy="120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6" name=""/>
            <p:cNvSpPr/>
            <p:nvPr/>
          </p:nvSpPr>
          <p:spPr>
            <a:xfrm>
              <a:off x="914400" y="1752480"/>
              <a:ext cx="7467120" cy="43430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1828800" y="480060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Times New Roman"/>
              </a:rPr>
              <a:t>图</a:t>
            </a:r>
            <a:r>
              <a:rPr b="0" lang="zh-CN" sz="2800" spc="-1" strike="noStrike">
                <a:solidFill>
                  <a:srgbClr val="ff9900"/>
                </a:solidFill>
                <a:latin typeface="Times New Roman"/>
              </a:rPr>
              <a:t>8.18  321H</a:t>
            </a:r>
            <a:r>
              <a:rPr b="0" lang="zh-CN" sz="2800" spc="-1" strike="noStrike">
                <a:solidFill>
                  <a:srgbClr val="ff9900"/>
                </a:solidFill>
                <a:latin typeface="Times New Roman"/>
              </a:rPr>
              <a:t>硬件寄存器各位的含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238880" y="6324480"/>
            <a:ext cx="15796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9900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10492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rcRect l="4226" t="0" r="3113" b="14067"/>
          <a:stretch/>
        </p:blipFill>
        <p:spPr>
          <a:xfrm>
            <a:off x="457200" y="1905120"/>
            <a:ext cx="8381880" cy="23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94920" y="1034280"/>
            <a:ext cx="7696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 Unicode MS"/>
                <a:ea typeface="Times New Roman"/>
              </a:rPr>
              <a:t>8.3.3  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</a:rPr>
              <a:t>硬盘驱动器数据线的线缆标准</a:t>
            </a:r>
            <a:r>
              <a:rPr b="1" lang="zh-CN" sz="3200" spc="-1" strike="noStrike">
                <a:solidFill>
                  <a:srgbClr val="ff9900"/>
                </a:solidFill>
                <a:latin typeface="Arial Unicode MS"/>
                <a:ea typeface="Times New Roman"/>
              </a:rPr>
              <a:t>	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827840" cy="33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　　硬盘驱动器最常用的数据线缆有五种线缆标准。变频锁相环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MFM/PLL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式数据线缆、行程长度受限制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RLLC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式线缆、增强小型设备接口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ESDI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线缆、小型计算机系统接口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SCSI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式线缆和集成驱动接口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IDE/EID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式线缆五种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3" name=""/>
          <p:cNvGraphicFramePr/>
          <p:nvPr/>
        </p:nvGraphicFramePr>
        <p:xfrm>
          <a:off x="1371600" y="1905120"/>
          <a:ext cx="6095880" cy="3324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1905120"/>
                    <a:ext cx="6095880" cy="33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5" name=""/>
          <p:cNvSpPr/>
          <p:nvPr/>
        </p:nvSpPr>
        <p:spPr>
          <a:xfrm>
            <a:off x="914400" y="54864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8.7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增强小型设备接口（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SDI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）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线数据线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1828440" y="914040"/>
            <a:ext cx="57675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增强小型设备接口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ESDI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685800" y="8380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Arial"/>
                <a:ea typeface="黑体"/>
              </a:rPr>
              <a:t>表</a:t>
            </a:r>
            <a:r>
              <a:rPr b="0" lang="zh-CN" sz="2800" spc="-1" strike="noStrike">
                <a:solidFill>
                  <a:srgbClr val="ff9900"/>
                </a:solidFill>
                <a:latin typeface="Times New Roman"/>
              </a:rPr>
              <a:t>8.8  </a:t>
            </a:r>
            <a:r>
              <a:rPr b="0" lang="zh-CN" sz="2800" spc="-1" strike="noStrike">
                <a:solidFill>
                  <a:srgbClr val="ff9900"/>
                </a:solidFill>
                <a:latin typeface="Arial"/>
                <a:ea typeface="黑体"/>
              </a:rPr>
              <a:t>增强小型设备接口（</a:t>
            </a:r>
            <a:r>
              <a:rPr b="0" lang="zh-CN" sz="2800" spc="-1" strike="noStrike">
                <a:solidFill>
                  <a:srgbClr val="ff9900"/>
                </a:solidFill>
                <a:latin typeface="Times New Roman"/>
              </a:rPr>
              <a:t>ESDI</a:t>
            </a:r>
            <a:r>
              <a:rPr b="0" lang="zh-CN" sz="2800" spc="-1" strike="noStrike">
                <a:solidFill>
                  <a:srgbClr val="ff9900"/>
                </a:solidFill>
                <a:latin typeface="Arial"/>
                <a:ea typeface="黑体"/>
              </a:rPr>
              <a:t>）</a:t>
            </a:r>
            <a:r>
              <a:rPr b="0" lang="zh-CN" sz="2800" spc="-1" strike="noStrike">
                <a:solidFill>
                  <a:srgbClr val="ff9900"/>
                </a:solidFill>
                <a:latin typeface="Times New Roman"/>
              </a:rPr>
              <a:t>34</a:t>
            </a:r>
            <a:r>
              <a:rPr b="0" lang="zh-CN" sz="2800" spc="-1" strike="noStrike">
                <a:solidFill>
                  <a:srgbClr val="ff9900"/>
                </a:solidFill>
                <a:latin typeface="Arial"/>
                <a:ea typeface="黑体"/>
              </a:rPr>
              <a:t>线控制线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1676520" y="1592280"/>
          <a:ext cx="5638680" cy="4808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1592280"/>
                    <a:ext cx="5638680" cy="48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2057040" y="1142640"/>
            <a:ext cx="57675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小型计算机接口（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SCSI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838080" y="236232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　　小型计算机接口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CSI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的数据线缆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5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线和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8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线两种形式的数据线缆。如表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8.9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所示为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5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线的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CSI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数据线缆，其尺寸一般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5.25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英寸和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.5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英寸两种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361960" y="1019880"/>
            <a:ext cx="4267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 Unicode MS"/>
                <a:ea typeface="Times New Roman"/>
              </a:rPr>
              <a:t>8.1.2  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</a:rPr>
              <a:t>写入数据原理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84582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　　当要记录的电流通过线圈时，为了保持磁化强度，记录信号的脉冲需要一个周期内使磁场方向改变一次，当磁头中写电流从正向稳态变为反向稳态时，使记录在介质上的正向饱和磁化强度翻转到反向饱和磁化强度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238880" y="6324480"/>
            <a:ext cx="15796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6495480" y="1447920"/>
            <a:ext cx="9118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8.9  SCSI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接口驱动器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50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线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238880" y="6324480"/>
            <a:ext cx="15796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1981080" y="952560"/>
          <a:ext cx="4476960" cy="514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952560"/>
                    <a:ext cx="447696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62120" y="1278000"/>
            <a:ext cx="8153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 Unicode MS"/>
                <a:ea typeface="Times New Roman"/>
              </a:rPr>
              <a:t>8.3.4  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增强</a:t>
            </a:r>
            <a:r>
              <a:rPr b="1" lang="zh-CN" sz="2800" spc="-1" strike="noStrike">
                <a:solidFill>
                  <a:srgbClr val="ff9900"/>
                </a:solidFill>
                <a:latin typeface="Arial Unicode MS"/>
                <a:ea typeface="Times New Roman"/>
              </a:rPr>
              <a:t>IDE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9900"/>
                </a:solidFill>
                <a:latin typeface="Arial Unicode MS"/>
                <a:ea typeface="Times New Roman"/>
              </a:rPr>
              <a:t>EIDE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或</a:t>
            </a:r>
            <a:r>
              <a:rPr b="1" lang="zh-CN" sz="2800" spc="-1" strike="noStrike">
                <a:solidFill>
                  <a:srgbClr val="ff9900"/>
                </a:solidFill>
                <a:latin typeface="Arial Unicode MS"/>
                <a:ea typeface="Times New Roman"/>
              </a:rPr>
              <a:t>ATA-2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）接</a:t>
            </a:r>
            <a:r>
              <a:rPr b="1" lang="zh-CN" sz="2800" spc="-1" strike="noStrike">
                <a:solidFill>
                  <a:srgbClr val="ff9900"/>
                </a:solidFill>
                <a:latin typeface="Arial Unicode MS"/>
                <a:ea typeface="Arial Unicode MS"/>
              </a:rPr>
              <a:t>口</a:t>
            </a:r>
            <a:endParaRPr b="1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80773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EIDE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接口规范中还通过一种被称为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ATAPI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的新标准，使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IDE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或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ATA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接口支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CD-ROM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驱动器。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EIDE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接口外形如图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8.2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所示。应用在硬盘接口上时，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EIDE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接口一般都采用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IO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模式，表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8.1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定义了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EIDE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传输模式及其最小总线周期时间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171880" y="548640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8.21  EID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接口插座外形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7957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6400800" cy="41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1447920" y="54864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8.11  EIDE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传输模式及其最小总线周期时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952560" y="1828800"/>
          <a:ext cx="7238880" cy="320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52560" y="1828800"/>
                    <a:ext cx="723888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2133360" y="1142640"/>
            <a:ext cx="523404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超级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DMA/3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接口协议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838080" y="21337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　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57200" y="2133720"/>
            <a:ext cx="8153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超级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DMA/3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接口协议是一种用于数据传输的新型协议。通过标准的总线主控制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ID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接口电路来启动和控制这种传输。超级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DMA/3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通过一个源同步信号协议来传输数据，以支持数据传输的突发操作。是采用总线主控制方式，在硬盘上安装控制硬盘读写的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DM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控制器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2057040" y="1218960"/>
            <a:ext cx="477684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超级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DMA/3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接口信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295280" y="2819520"/>
            <a:ext cx="632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85800" y="2590920"/>
            <a:ext cx="762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当工作在超级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DMA/3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模式时，只是对一些标准的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ID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控制信号进行了重新的定义，这些重新定义的信号如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8.1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所示。从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ID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设备到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ID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接口的数据传输定义为读周期，从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ID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接口到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ID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设备的数据传输定义为写周期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0" name=""/>
          <p:cNvGraphicFramePr/>
          <p:nvPr/>
        </p:nvGraphicFramePr>
        <p:xfrm>
          <a:off x="990720" y="1066680"/>
          <a:ext cx="7162560" cy="348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066680"/>
                    <a:ext cx="7162560" cy="34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"/>
          <p:cNvSpPr/>
          <p:nvPr/>
        </p:nvSpPr>
        <p:spPr>
          <a:xfrm>
            <a:off x="457200" y="49528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8.12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超级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DMA/33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接口控制信号的重新定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2057400" y="990360"/>
            <a:ext cx="554184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超级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DMA/3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工作过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62120" y="2133720"/>
            <a:ext cx="746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　使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DE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接口工作在超级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DMA/3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模式时，必须预进行初始化编程，这种初始化编程分成两个部分：一个是对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DE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接口的使能和配置，一个是对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DE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设备的使能和配置。对于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DE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接口，必须允许工作在同步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DMA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模式和建立适当的同步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DMA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时序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2361960" y="990360"/>
            <a:ext cx="46479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超级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DMA/3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时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09480" y="2057400"/>
            <a:ext cx="7696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　超级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DMA/3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时序可以通过超级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DMA/3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时序寄存器进行编程，可编程的时序包括周期时间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T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和准备暂停时间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RP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。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T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为数据有效使能信号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TROBE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的最小脉冲宽度，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R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为期望停止突发读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写传输从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DMARDT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无效到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TOP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有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DE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接口需要等待的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CI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时钟数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1980720" y="990360"/>
            <a:ext cx="53866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超级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DMA/66/100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接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23960" y="2209680"/>
            <a:ext cx="769608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　　超级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DMA/6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逻辑时钟运行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66MHz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数据传输率达到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66MB/s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。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DMA/6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协议也支持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4MB/s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传输模式，此时完成一次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位的数据传输需要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个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66MHz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时钟周期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238880" y="6324480"/>
            <a:ext cx="15796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8967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 Unicode MS"/>
                <a:ea typeface="Times New Roman"/>
              </a:rPr>
              <a:t>8.1.3  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读出数据原理及过程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941120"/>
            <a:ext cx="8686800" cy="35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　　读出是写入的逆过程。当磁头与磁介质作相对运动时，由于磁介质与磁头铁芯的缝隙相接触，使铁芯中出现原记录的散磁通，并且在读出线圈两端产生感生电动势。经过读出电路就可还原成读出电流，读出电流的方向、大小正好与原记录信号相同，使原数据信号还原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238880" y="6324480"/>
            <a:ext cx="15796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26640" y="973080"/>
            <a:ext cx="8140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 Unicode MS"/>
                <a:ea typeface="Times New Roman"/>
              </a:rPr>
              <a:t>8.4  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现代硬盘及接口技术的发展</a:t>
            </a:r>
            <a:r>
              <a:rPr b="1" lang="zh-CN" sz="3600" spc="-1" strike="noStrike">
                <a:solidFill>
                  <a:srgbClr val="ff9900"/>
                </a:solidFill>
                <a:latin typeface="Arial Unicode MS"/>
                <a:ea typeface="Times New Roman"/>
              </a:rPr>
              <a:t>	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523520" y="2133720"/>
            <a:ext cx="66056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f89f7"/>
                </a:solidFill>
                <a:uFillTx/>
                <a:latin typeface="Arial Unicode MS"/>
                <a:ea typeface="Times New Roman"/>
                <a:hlinkClick r:id="rId3" action="ppaction://hlinksldjump"/>
              </a:rPr>
              <a:t>8.4.1  </a:t>
            </a:r>
            <a:r>
              <a:rPr b="0" lang="zh-CN" sz="3200" spc="-1" strike="noStrike" u="sng">
                <a:solidFill>
                  <a:srgbClr val="6f89f7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磁头技术的发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8.4.2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硬盘内部传输速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8.4.3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采用全新的硬盘保护技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8.4.4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硬盘接口新技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>
            <a:hlinkClick r:id="rId8" action="ppaction://hlinksldjump"/>
          </p:cNvPr>
          <p:cNvSpPr/>
          <p:nvPr/>
        </p:nvSpPr>
        <p:spPr>
          <a:xfrm>
            <a:off x="7238880" y="6324480"/>
            <a:ext cx="15796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Times New Roman"/>
              </a:rPr>
              <a:t>返回本章首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142640" y="973080"/>
            <a:ext cx="730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 Unicode MS"/>
                <a:ea typeface="Times New Roman"/>
              </a:rPr>
              <a:t>8.4.1  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磁头技术的发展</a:t>
            </a:r>
            <a:r>
              <a:rPr b="1" lang="zh-CN" sz="3600" spc="-1" strike="noStrike">
                <a:solidFill>
                  <a:srgbClr val="ff9900"/>
                </a:solidFill>
                <a:latin typeface="Arial Unicode MS"/>
                <a:ea typeface="Times New Roman"/>
              </a:rPr>
              <a:t>	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8003880" cy="27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　　现代硬盘中在磁头技术上普遍采用的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GMR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巨磁阻磁头技术、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OAW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光学辅助温氏磁头技术，使磁盘的容量更大、磁道的密度更高。如现在已经出现了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00G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以上容量的硬盘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238880" y="6324480"/>
            <a:ext cx="15796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61760" y="1034280"/>
            <a:ext cx="7683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 Unicode MS"/>
                <a:ea typeface="Times New Roman"/>
              </a:rPr>
              <a:t>8.4.2  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</a:rPr>
              <a:t>硬盘内部传输速度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080200" cy="31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　　在硬盘速度方面除提高主轴电机转速外，采用更大的硬盘高速缓存（有的硬盘具有高达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512KB~4M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高速缓存）和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UltraDSP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超级数字信号处理技术，使硬盘的数据传输速度更快，现代硬盘的内部数据传输率可达到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00MB/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甚至更快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238880" y="6324480"/>
            <a:ext cx="15796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98040" y="973080"/>
            <a:ext cx="8140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 Unicode MS"/>
                <a:ea typeface="Times New Roman"/>
              </a:rPr>
              <a:t>8.4.3  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采用全新的硬盘保护技术</a:t>
            </a:r>
            <a:r>
              <a:rPr b="1" lang="zh-CN" sz="3600" spc="-1" strike="noStrike">
                <a:solidFill>
                  <a:srgbClr val="ff9900"/>
                </a:solidFill>
                <a:latin typeface="Arial Unicode MS"/>
                <a:ea typeface="Times New Roman"/>
              </a:rPr>
              <a:t>	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0010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　　在硬盘保护技术方面采用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S.M.A.R.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硬盘故障自动检测、分析报告）技术、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SP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磁盘振动保护技术、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DP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数据保护系统等，使硬盘的防震性能更好、可靠性更高、寿命更长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238880" y="6324480"/>
            <a:ext cx="15796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4560" y="973080"/>
            <a:ext cx="8140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 Unicode MS"/>
                <a:ea typeface="Times New Roman"/>
              </a:rPr>
              <a:t>8.4.4  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硬盘接口新技术</a:t>
            </a:r>
            <a:r>
              <a:rPr b="1" lang="zh-CN" sz="3600" spc="-1" strike="noStrike">
                <a:solidFill>
                  <a:srgbClr val="ff9900"/>
                </a:solidFill>
                <a:latin typeface="Arial Unicode MS"/>
                <a:ea typeface="Times New Roman"/>
              </a:rPr>
              <a:t>	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　　在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ID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技术方面，采用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Ultra DMA/33/66/10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ATA/ID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新型接口技术。在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SCSI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硬盘接口技术方面，采用了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Ultra 160/m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，使数据传输速率高达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60MB/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IEEE1394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技术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IEEE1394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硬盘接口规范的应用，使硬盘的数据传输率更高。它是一种高速串行总线，二是一个标准接口，具有较好的兼容性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238880" y="6324480"/>
            <a:ext cx="15796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80880" y="973080"/>
            <a:ext cx="7531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 Unicode MS"/>
                <a:ea typeface="Times New Roman"/>
              </a:rPr>
              <a:t>8.5  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磁盘驱动器接口软件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599840" y="2133360"/>
            <a:ext cx="6072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8.5.1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磁盘驱动器的端口操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8.5.2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磁盘的</a:t>
            </a:r>
            <a:r>
              <a:rPr b="1" lang="zh-CN" sz="32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BIOS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服务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8.5.3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磁盘的</a:t>
            </a:r>
            <a:r>
              <a:rPr b="1" lang="zh-CN" sz="32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DOS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接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238880" y="6324480"/>
            <a:ext cx="15796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Times New Roman"/>
              </a:rPr>
              <a:t>返回本章首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685800" y="2057400"/>
            <a:ext cx="7543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直接作用于适配器控制器，是针对端口进行的输入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输出操作及其命令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作用于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BIOS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，是系统提供的磁盘服务程序，以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NT1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中断调用为主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高级磁盘服务程序，作用于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DOS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等磁盘操作系统，是系统提供给用户的命令或应用程序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838080" y="1143000"/>
            <a:ext cx="54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硬盘驱动器接口软件有若干类型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4560" y="973080"/>
            <a:ext cx="8140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 Unicode MS"/>
                <a:ea typeface="Times New Roman"/>
              </a:rPr>
              <a:t>8.5.1  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磁盘驱动器的端口操作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295280" y="480060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8.22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磁盘端口一级的命令调用功能示意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1066680" y="2438280"/>
          <a:ext cx="6607440" cy="1771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2438280"/>
                    <a:ext cx="6607440" cy="17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4" name=""/>
          <p:cNvSpPr/>
          <p:nvPr/>
        </p:nvSpPr>
        <p:spPr>
          <a:xfrm>
            <a:off x="7238880" y="6324480"/>
            <a:ext cx="15796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560" y="973080"/>
            <a:ext cx="8140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 Unicode MS"/>
                <a:ea typeface="Times New Roman"/>
              </a:rPr>
              <a:t>8.5.2  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磁盘的</a:t>
            </a:r>
            <a:r>
              <a:rPr b="1" lang="zh-CN" sz="3600" spc="-1" strike="noStrike">
                <a:solidFill>
                  <a:srgbClr val="ff9900"/>
                </a:solidFill>
                <a:latin typeface="Arial Unicode MS"/>
                <a:ea typeface="Times New Roman"/>
              </a:rPr>
              <a:t>BIOS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服务程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057400" y="49528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8.23  BIOS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一级调用示意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838080" y="2133720"/>
          <a:ext cx="6989760" cy="2247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2133720"/>
                    <a:ext cx="6989760" cy="22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2362320" y="518148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8.13  INT 13H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软盘服务功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252360" y="2073240"/>
          <a:ext cx="8639280" cy="2711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2360" y="2073240"/>
                    <a:ext cx="8639280" cy="27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00200" y="973080"/>
            <a:ext cx="6006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 Unicode MS"/>
                <a:ea typeface="Times New Roman"/>
              </a:rPr>
              <a:t>8.1.4  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读写过程</a:t>
            </a:r>
            <a:r>
              <a:rPr b="1" lang="zh-CN" sz="3600" spc="-1" strike="noStrike">
                <a:solidFill>
                  <a:srgbClr val="ff9900"/>
                </a:solidFill>
                <a:latin typeface="Arial Unicode MS"/>
                <a:ea typeface="Times New Roman"/>
              </a:rPr>
              <a:t>	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8680" y="1941120"/>
            <a:ext cx="8208720" cy="35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　　读写磁头与转动平面垂直接触，在读写窗做前后方向运动；当线圈通过不同方向电流时，在磁铁芯中形成磁场，并产生不同方向的磁通；磁通透过读写缝隙与涂磁盘面接触，使磁化因子运动。这样盘面上的磁化运动与代表数据的电流构成了关系。磁盘读写电路如图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8.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2133720" y="99072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8.14  INT 13H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硬盘服务功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6324480"/>
            <a:ext cx="15796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228600" y="1905120"/>
          <a:ext cx="8534520" cy="3994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905120"/>
                    <a:ext cx="853452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560" y="973080"/>
            <a:ext cx="8140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 Unicode MS"/>
                <a:ea typeface="Times New Roman"/>
              </a:rPr>
              <a:t>8.5.3  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磁盘的</a:t>
            </a:r>
            <a:r>
              <a:rPr b="1" lang="zh-CN" sz="3600" spc="-1" strike="noStrike">
                <a:solidFill>
                  <a:srgbClr val="ff9900"/>
                </a:solidFill>
                <a:latin typeface="Arial Unicode MS"/>
                <a:ea typeface="Times New Roman"/>
              </a:rPr>
              <a:t>DOS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接口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　　用户程序调用过程如图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8.24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DOS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调用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BIOS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设备驱动程序要经过以下几步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DOS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根据用户程序或命令，查找相应的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BIOS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服务功能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DOS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在内存中建立地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ES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BX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，指向请求处理段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策略过程，将请求标题存入段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SEG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寄存器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按照请求标题的地址，对相应的信息进行处理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2057400" y="61722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752480" y="5486400"/>
            <a:ext cx="4724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790640" y="56386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图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8.24  DOS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调用过程示意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238880" y="6324480"/>
            <a:ext cx="15796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9900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357280" y="22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772400" cy="43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4560" y="912240"/>
            <a:ext cx="8140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HANK YOU VERY MUCH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！</a:t>
            </a:r>
            <a:endParaRPr b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66200" y="2514600"/>
            <a:ext cx="820908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本章到此结束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谢谢您的光临！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>
            <a:hlinkClick r:id="rId4" action="ppaction://hlinksldjump"/>
          </p:cNvPr>
          <p:cNvSpPr/>
          <p:nvPr/>
        </p:nvSpPr>
        <p:spPr>
          <a:xfrm>
            <a:off x="7238880" y="6324480"/>
            <a:ext cx="15796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Times New Roman"/>
              </a:rPr>
              <a:t>返回本章首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>
            <a:hlinkClick r:id="" action="ppaction://hlinkshowjump?jump=endshow"/>
          </p:cNvPr>
          <p:cNvSpPr/>
          <p:nvPr/>
        </p:nvSpPr>
        <p:spPr>
          <a:xfrm>
            <a:off x="6072840" y="6340320"/>
            <a:ext cx="78876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Times New Roman"/>
              </a:rPr>
              <a:t>结 束放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828800" y="54864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图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8.2  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磁盘读写控制电路示意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238880" y="6324480"/>
            <a:ext cx="15796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9900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24000" y="24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077320" cy="31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7T07:48:24Z</dcterms:created>
  <dc:creator>liwu</dc:creator>
  <dc:description/>
  <dc:language>en-US</dc:language>
  <cp:lastModifiedBy>wuxian</cp:lastModifiedBy>
  <dcterms:modified xsi:type="dcterms:W3CDTF">2002-01-23T08:40:23Z</dcterms:modified>
  <cp:revision>35</cp:revision>
  <dc:subject/>
  <dc:title>PowerPoint 演示文稿</dc:title>
</cp:coreProperties>
</file>